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1CB8-A724-4A6B-809D-6339663E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DD7D-E78B-404D-8FE9-F051BEC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07F3-6EA0-4BA1-AAB0-22ECAC1E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C0E1-DB61-4D33-94A4-3CA7A6D1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965B-859D-4ED2-896C-A9D5813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74D9-751C-4F04-9218-C8BF3EEE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7FE0-A26E-455D-981F-DDEDF485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DA94-94E1-4026-9F64-E2CC23D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94F8-CABA-43F1-8B16-04F69AF4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73B8-A9E7-476E-94C0-B640E9E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92D7-ED66-4E1D-B118-FD31C37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4328-6F3A-4332-B0BE-FF1E138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745C-5F46-4F71-B2D9-CC30F9E7D3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6F70-66CC-4259-A7D8-10585512AA61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03E-6F2E-4189-963D-F1DFE83B26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6840" y="1915920"/>
            <a:ext cx="7620120" cy="4128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Pv 8.  12-17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Ef 1.  17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2 Pe 1.  3-8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0C8-F611-40FE-A80F-AA39604185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718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196640"/>
            <a:ext cx="7620120" cy="5203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2f2b20"/>
                </a:solidFill>
                <a:latin typeface="Arial"/>
                <a:ea typeface="Arial"/>
              </a:rPr>
              <a:t>2 - Mas, como ocorre entre os incrédulos, assim também entre o povo de Deus existe o reconhecimento e o apreço pela sabedoria, e aplauso sobre aqueles que a possuem ou parecem possui-la e, pior, a presunção e vanglória pessoal destes últimos. Certamente o apóstolo está se dirigindo aqui aos mesmos indivíduos que posavam de mestres da igreja e, na sua presunção, pronunciavam-se temerariamente, maldizendo o próximo ao mesmo tempo em que louvavam a Deus. Suas palavras por si só já denunciavam que a sabedoria que alegavam não passava de palavras vãs e vazias, e o verdadeiro caráter desses era revelado por esse mal uso da língua. O escritor demanda, então, que o verdadeiro sábio demonstre sua virtude do único modo possível – não pelo excesso de palavras, mas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  <a:ea typeface="Arial"/>
              </a:rPr>
              <a:t>pelo seu bom trato, as suas obras em mansidão de sabedoria</a:t>
            </a:r>
            <a:r>
              <a:rPr b="0" lang="pt-BR" sz="2200" spc="-1" strike="noStrike">
                <a:solidFill>
                  <a:srgbClr val="2f2b20"/>
                </a:solidFill>
                <a:latin typeface="Arial"/>
                <a:ea typeface="Arial"/>
              </a:rPr>
              <a:t>”. Aqui ele se refere tanto a uma atitude prudente, paciente e benevolente para com o próximo.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Pv 13.16; Pv 20.3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783E-3EC5-408E-BB71-240A1AE756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2565360"/>
            <a:ext cx="7620120" cy="2735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Pv 13.  16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Pv 20.  3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9E28-A8AE-49D3-B216-1BCA0C2DE5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EAD-0A37-4044-A71E-9DF356A245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341000"/>
            <a:ext cx="7620120" cy="5203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b050"/>
                </a:solidFill>
                <a:latin typeface="Arial"/>
                <a:ea typeface="Arial"/>
              </a:rPr>
              <a:t>II – A FALSA SABEDORIA DESMASCARADA     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vv. 14-16</a:t>
            </a: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  <a:ea typeface="Arial"/>
              </a:rPr>
              <a:t>14  Mas, se tendes amarga inveja e sentimento faccioso em vosso coração, não vos glorieis, nem mintais contra a verdade. 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  <a:ea typeface="Arial"/>
              </a:rPr>
              <a:t>15  Essa não é a sabedoria que vem do alto, mas é terrena, animal e diabólica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  <a:ea typeface="Arial"/>
              </a:rPr>
              <a:t>16  Porque, onde há inveja e espírito faccioso, aí há perturbação e toda obra perversa. 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483-AFA7-4532-88AC-3820292B0B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268280"/>
            <a:ext cx="7620120" cy="5276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 – A FALSA SABEDORIA DESMASCARADA 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1 - Embora a presunção dos que se diziam sábios já esteja suficientemente rebatida com o argumento do verso anterior, Tiago avança no sentido de confrontar esses indivíduos com a forma de trato que demonstravam – um modo de lidar com o próximo que provava antes que a sabedoria que alegavam ter não era verdadeira ou divina.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  <a:ea typeface="Arial"/>
              </a:rPr>
              <a:t>Se tendes amarga inveja e sentimento faccioso em vosso coração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”. Ainda que se ocultem por um tempo no coração, a inveja e o sentimento faccioso tendem a se manifestar nas palavras dos supostamente “sábios” e “mestres” na forma de discursos ou conversações que tornam outras pessoas odiosas ou desprezíveis aos olhos daqueles que são enganados por suas palavras. E, como bem sabemos, inveja e sedição são obras da carne, não do Espírito.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 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  <a:ea typeface="Arial"/>
              </a:rPr>
              <a:t>Mt 7.22; Gl 5.19-21, 26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C108-4C43-4AB2-A19F-51978E8255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2923920"/>
            <a:ext cx="7620120" cy="23050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  <a:ea typeface="Arial"/>
              </a:rPr>
              <a:t>Mt 7.  2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  <a:ea typeface="Arial"/>
              </a:rPr>
              <a:t>Gl 5.  19-21, 26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997A-835C-4070-9C72-FAC783AC61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267920"/>
            <a:ext cx="7620120" cy="5256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Arial"/>
                <a:ea typeface="Arial"/>
              </a:rPr>
              <a:t>II – A FALSA SABEDORIA DESMASCARAD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1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2f2b20"/>
                </a:solidFill>
                <a:latin typeface="Arial"/>
                <a:ea typeface="Arial"/>
              </a:rPr>
              <a:t>2 - Para contrastar o caráter desses autoproclamados “sábios” com o de um homem sábio segundo Deus, o apóstolo chama a “</a:t>
            </a:r>
            <a:r>
              <a:rPr b="0" lang="pt-BR" sz="2500" spc="-1" strike="noStrike">
                <a:solidFill>
                  <a:srgbClr val="0000cc"/>
                </a:solidFill>
                <a:latin typeface="Arial"/>
                <a:ea typeface="Arial"/>
              </a:rPr>
              <a:t>sabedoria</a:t>
            </a:r>
            <a:r>
              <a:rPr b="0" lang="pt-BR" sz="2500" spc="-1" strike="noStrike">
                <a:solidFill>
                  <a:srgbClr val="2f2b20"/>
                </a:solidFill>
                <a:latin typeface="Arial"/>
                <a:ea typeface="Arial"/>
              </a:rPr>
              <a:t>” deles de “</a:t>
            </a:r>
            <a:r>
              <a:rPr b="0" lang="pt-BR" sz="2500" spc="-1" strike="noStrike">
                <a:solidFill>
                  <a:srgbClr val="0000cc"/>
                </a:solidFill>
                <a:latin typeface="Arial"/>
                <a:ea typeface="Arial"/>
              </a:rPr>
              <a:t>terrena, animal, diabólica</a:t>
            </a:r>
            <a:r>
              <a:rPr b="0" lang="pt-BR" sz="2500" spc="-1" strike="noStrike">
                <a:solidFill>
                  <a:srgbClr val="2f2b20"/>
                </a:solidFill>
                <a:latin typeface="Arial"/>
                <a:ea typeface="Arial"/>
              </a:rPr>
              <a:t>”, como se de fato admitisse que eles estavam agindo de acordo com um conhecimento prático – um “saber viver” – só que não recebido de Deus, mas antes de acordo com o espírito desse mundo, do diabo mesmo, que vive sobre o princípio da inveja e dissensão e assim ensina seus filhos a invejarem e se dividirem contra o próximo – em outras palavras, a odiá-los.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1 Jo 3.10-14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D2D6-B168-4EE8-94AF-EB8B30973A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6840" y="3284280"/>
            <a:ext cx="7620120" cy="1584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1 Jo 3.  10-14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545A-6443-4497-BD0E-9AAA5908F7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A567-75A7-4D21-B12C-F90639211B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852280"/>
            <a:ext cx="7543800" cy="1368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800"/>
            </a:b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229360"/>
            <a:ext cx="74865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Baskerville Old Face"/>
              </a:rPr>
              <a:t>CLASSES DE  JOVENS E ADULTOS  DA  EBD</a:t>
            </a:r>
            <a:br>
              <a:rPr sz="2400"/>
            </a:b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CD6-5F6C-48E2-A82A-2CAAD269E7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CaixaDeTexto 5"/>
          <p:cNvSpPr/>
          <p:nvPr/>
        </p:nvSpPr>
        <p:spPr>
          <a:xfrm>
            <a:off x="684360" y="98100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341360"/>
            <a:ext cx="7620120" cy="5112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vv. 13-18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  <a:ea typeface="Calibri"/>
              </a:rPr>
              <a:t>17  Mas a sabedoria que vem do alto é, primeiramente, pura, depois, pacífica, moderada, tratável, cheia de misericórdia e de bons frutos, sem parcialidade e sem hipocrisia. 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  <a:ea typeface="Calibri"/>
              </a:rPr>
              <a:t>18  Ora, o fruto da justiça semeia-se na paz, para os que exercitam a paz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E0D7-077C-4134-A942-89017C3727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2f2b20"/>
                </a:solidFill>
                <a:latin typeface="Arial"/>
                <a:ea typeface="Arial"/>
              </a:rPr>
              <a:t>1 - Segue-se uma distinção contrastante entre aquilo que Tiago descreve como “</a:t>
            </a:r>
            <a:r>
              <a:rPr b="0" lang="pt-BR" sz="2100" spc="-1" strike="noStrike">
                <a:solidFill>
                  <a:srgbClr val="0000cc"/>
                </a:solidFill>
                <a:latin typeface="Arial"/>
                <a:ea typeface="Arial"/>
              </a:rPr>
              <a:t>sabedoria</a:t>
            </a:r>
            <a:r>
              <a:rPr b="0" lang="pt-BR" sz="2100" spc="-1" strike="noStrike">
                <a:solidFill>
                  <a:srgbClr val="2f2b20"/>
                </a:solidFill>
                <a:latin typeface="Arial"/>
                <a:ea typeface="Arial"/>
              </a:rPr>
              <a:t>” humana e a sabedoria divina. E, em primeiro lugar, notamos que esta é um dom de Deus, pois ela “</a:t>
            </a:r>
            <a:r>
              <a:rPr b="0" lang="pt-BR" sz="2100" spc="-1" strike="noStrike">
                <a:solidFill>
                  <a:srgbClr val="0000cc"/>
                </a:solidFill>
                <a:latin typeface="Arial"/>
                <a:ea typeface="Arial"/>
              </a:rPr>
              <a:t>vem do alto</a:t>
            </a:r>
            <a:r>
              <a:rPr b="0" lang="pt-BR" sz="2100" spc="-1" strike="noStrike">
                <a:solidFill>
                  <a:srgbClr val="2f2b20"/>
                </a:solidFill>
                <a:latin typeface="Arial"/>
                <a:ea typeface="Arial"/>
              </a:rPr>
              <a:t>”, para aqueles que a desejam e buscam sinceramente; não é aprendida pela experiência, pois, enquanto muitos jamais a alcançam, outros a recebem cedo em suas vidas, tornando-se mais sábios do que os mais experientes pelo tempo. Depois, o apóstolo destaca as características da sabedoria divina; notemos que estão todas relacionadas àquele bom trato de que ele falou anteriormente – isto é, são todos aspectos do nosso relacionamento com o próximo, desde a pureza que se opõe à inveja até a paz, moderação e tratabilidade que se opõem ao espírito faccioso.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(cf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  <a:ea typeface="Arial"/>
              </a:rPr>
              <a:t>. Tg 1.5-6; Pv 8.17-20; Ec 4.13; Sl 119.100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585-F203-46F2-8064-ACEBEFFC51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2636640"/>
            <a:ext cx="7620120" cy="3408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Tg 1.  5-6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Pv 8.  17-20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Ec 4.  13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Sl 119. 100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FAE-3ED1-4823-BDFD-CF67759BCA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I – O CARÁTER DA SABEDORIA DE DE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f2b20"/>
                </a:solidFill>
                <a:latin typeface="Arial"/>
                <a:ea typeface="Arial"/>
              </a:rPr>
              <a:t>2 - Quando fala no fruto da justiça, o escritor se refere a um aspecto da verdade divina bem conhecido daqueles irmãos. Justiça expressa um dos principais anseios do povo de Deus desde os tempos da Antiga Aliança, e continua a ser a busca dos cristãos – sua concretização plena é aguardada quando da manifestação do reino de Deus na eternidade. E aqui ele afirma que essa justiça só poderá ser alcançada – seu fruto colhido – por aqueles que hoje a semeiam na paz, e não em contendas e inveja. Deus aborrece a contenda e não tem parte com os contenciosos, ao passo que os pacificadores serão proclamados, naquele dia, como filhos de Deus.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 (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  <a:ea typeface="Arial"/>
              </a:rPr>
              <a:t>Mt 5.6,9; 6.33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4B0-80D5-40EC-A8C5-B1C23C6ED1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2636640"/>
            <a:ext cx="7620120" cy="3408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Mt 5.  6,9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Mt 6.  33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99D-2A55-4E8E-AE8B-63F06038C5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5054-E4EB-4BB6-8F5B-CF0075ABD6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Conclusã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2f2b20"/>
                </a:solidFill>
                <a:latin typeface="Arial"/>
                <a:ea typeface="Arial"/>
              </a:rPr>
              <a:t>Provemos nossa obra e palavras de acordo com os princípios da verdadeira sabedoria, e vejamos se o nosso fruto tem sido realmente semeado na paz ou em contendas e aborrecimentos com o próximo; neste último caso, que possamos nos arrepender e reconhecer que nossa sabedoria tem sido mais terrena do que divina e voltemo-nos para Deus, atendendo ao clamor da verdadeira sabedoria e aprendamos com ela o bom trato que convém dispensarmos aos nossos irmãos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DE7-4C59-4C34-9CD8-FC0F8888AD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DD76-5F8A-4073-9BD9-F461B49402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Mas a sabedoria que vem do alto é, primeiramente, pura, depois, pacífica, moderada, tratável, cheia de misericórdia e de bons frutos, sem parcialidade e sem hipocrisia.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3.17 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67F9-5B57-4BBE-8A39-BF015C2E2A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807-E73B-4C89-9D08-46E5D403CE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8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0666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3357720"/>
            <a:ext cx="7620120" cy="1366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Leitura Bíblica</a:t>
            </a: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: </a:t>
            </a: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Tiago 3. 13 - 18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493-1896-46E4-86B1-BDEBA66D61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Mas a sabedoria que vem do alto é, primeiramente, pura, depois, pacífica, moderada, tratável, cheia de misericórdia e de bons frutos, sem parcialidade e sem hipocrisia.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3.17 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8C6E-0F29-4E99-970D-C5192B8A75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FD2D-FF79-4BEA-9000-1E8C3DA29A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Uma vez que os pecados repreendidos e expostos anteriormente são, em grande parte, frutos de um coração presunçoso, de uma alegada sabedoria ou conhecimento que estranhamente se evidencia em hipocrisia, acepção de pessoas, fé dissociada de obras e julgamento temerário do próximo; o apóstolo passa a demonstrar que não havia nada de louvável nessa “</a:t>
            </a:r>
            <a:r>
              <a:rPr b="0" lang="pt-BR" sz="2600" spc="-1" strike="noStrike">
                <a:solidFill>
                  <a:srgbClr val="0000cc"/>
                </a:solidFill>
                <a:latin typeface="Calibri"/>
              </a:rPr>
              <a:t>sabedoria</a:t>
            </a: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” humana – que, de fato, não era sabedoria nenhuma, pois a verdadeira sabedoria vem de Deus e seus frutos são manifestos e evidenciam a fonte sublime de onde ela procede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A12-7035-45AA-A461-58F18964B3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 – A FALSA SABEDORIA DESMASCARADA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O CARÁTER DA SABEDORIA DE DEUS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C38F-9927-474B-A5DF-3F7B21B12A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341360"/>
            <a:ext cx="7620120" cy="505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3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v. 13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imes New Roman"/>
                <a:ea typeface="Calibri"/>
              </a:rPr>
              <a:t>13  Quem dentre vós é sábio e inteligente? Mostre, pelo seu bom trato, as suas obras em mansidão de sabedoria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C74-F5D7-4ABC-8C31-0DA3AB3E95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7: OS SINAIS DA VERDADEIRA SABEDORI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484280"/>
            <a:ext cx="7620120" cy="505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I – A SABEDORIA É MANIFESTA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2f2b20"/>
                </a:solidFill>
                <a:latin typeface="Arial"/>
                <a:ea typeface="Arial"/>
              </a:rPr>
              <a:t>1 - A pergunta de Tiago implica como é importante ser sábio e inteligente (ou, em outra tradução, “</a:t>
            </a:r>
            <a:r>
              <a:rPr b="0" lang="pt-BR" sz="2300" spc="-1" strike="noStrike">
                <a:solidFill>
                  <a:srgbClr val="0000cc"/>
                </a:solidFill>
                <a:latin typeface="Arial"/>
                <a:ea typeface="Arial"/>
              </a:rPr>
              <a:t>ter conhecimento</a:t>
            </a:r>
            <a:r>
              <a:rPr b="0" lang="pt-BR" sz="2300" spc="-1" strike="noStrike">
                <a:solidFill>
                  <a:srgbClr val="2f2b20"/>
                </a:solidFill>
                <a:latin typeface="Arial"/>
                <a:ea typeface="Arial"/>
              </a:rPr>
              <a:t>”), especialmente porque somos informados pelas Escrituras que a vontade de Deus é nos tornar sábios e inteligentes. O apreço por esses verdadeiros tesouros é o que deve guiar todos os nossos esforços nesta vida, porque sem sabedoria e conhecimento não poderemos contar com nenhum sucesso em qualquer aspecto de nossa vida, principalmente espiritual. Notemos também que a sabedoria e o conhecimento estão associados de modo inseparável, porquanto uma depende do outro – a sabedoria depende do conhecimento da graça e das virtudes divinas; ao mesmo tempo em que o conhecimento divino não é estéril, pois orienta como viver, e impulsiona e constrange o crente a viver de acordo com a revelação.</a:t>
            </a:r>
            <a:r>
              <a:rPr b="0" lang="pt-BR" sz="23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  <a:ea typeface="Arial"/>
              </a:rPr>
              <a:t>Pv 8.12-17; Ef 1.17; 2 Pe 1.3-8</a:t>
            </a:r>
            <a:r>
              <a:rPr b="0" lang="pt-BR" sz="1100" spc="-1" strike="noStrike">
                <a:solidFill>
                  <a:srgbClr val="2f2b20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1167-8187-4EEE-86D5-E7CF451015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1:50:47Z</dcterms:created>
  <dc:creator>I.G.V</dc:creator>
  <dc:description/>
  <dc:language>en-US</dc:language>
  <cp:lastModifiedBy>Cássia</cp:lastModifiedBy>
  <dcterms:modified xsi:type="dcterms:W3CDTF">2021-02-09T19:57:23Z</dcterms:modified>
  <cp:revision>302</cp:revision>
  <dc:subject/>
  <dc:title>ESCOLA  BÍBLICA  DOMINICAL CLASSES DE  JOVENS E ADULTOS  DA  EBD</dc:title>
</cp:coreProperties>
</file>