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07A9-2732-4DEC-9CD6-1F1D85C0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E47E-A0CD-449A-B9CB-3CABAAC9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BD2C-5E2A-4567-A64F-94A14154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D73D-FF4D-457E-A6AC-E7E0ABF3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EA67-F207-4BCE-AEC5-6B379FE0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1562-5353-4E93-89D1-E078D527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4E87-1421-42D2-9E57-2555878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3B8D-96C1-4E80-9E95-E22F8703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608A-9E4B-4037-9FC5-03BF513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ACBF-A6BE-491B-B42E-A91F2642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714B8-88C0-4EEB-AE46-1B95716C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E08F-94D4-48D2-874C-9F5B29CD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F664-C784-424E-B35F-8F70CC2F87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FFDC-9B75-4EF2-B52C-15731ED0728E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3284640"/>
            <a:ext cx="7543800" cy="720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5157720"/>
            <a:ext cx="6460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2f2b20"/>
                </a:solidFill>
                <a:latin typeface="Baskerville Old Face"/>
              </a:rPr>
              <a:t>Primeiro Trimestre de 2021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2214-9948-4446-A846-9C4B13827C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CaixaDeTexto 5"/>
          <p:cNvSpPr/>
          <p:nvPr/>
        </p:nvSpPr>
        <p:spPr>
          <a:xfrm>
            <a:off x="684360" y="62064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6" descr="J:\Af2021\EBD2021\EBD2021Trim1Lição01_Tiago\tiago4.jpg"/>
          <p:cNvPicPr/>
          <p:nvPr/>
        </p:nvPicPr>
        <p:blipFill>
          <a:blip r:embed="rId1"/>
          <a:stretch/>
        </p:blipFill>
        <p:spPr>
          <a:xfrm>
            <a:off x="4211640" y="11592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7189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341360"/>
            <a:ext cx="7620120" cy="5059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I – Como Receber a Palavra de Deu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2f2b20"/>
                </a:solidFill>
                <a:latin typeface="Calibri"/>
              </a:rPr>
              <a:t>2 - Essa é uma verdade conhecida por todo cristão, mas que poucos levam em consideração quando sobrevêm as aflições; antes, tendemos a nos precipitar “falando” e nos “irando”, ou seja, dando vazão às impressões que temos do momento, as quais estarão muito aquém das razões divinas; ou, pior ainda, poderão se mostrar até ofensivas contra Deus. Assim, ao invés de primícias, fazemo-nos como o restolho e a palha inútil que há de ser consumida pelo fogo. A lição simples e importante por trás desses versos já foi apresentada no começo da epístola: o momento da prova deve ser recebido tanto com resignação ante a soberania de Deus, que tudo tem sob o Seu controle; como também com esperança de que até as piores circunstâncias haverão de redundar em nosso benefício, graças à Sua boa vontade para conosco.</a:t>
            </a:r>
            <a:r>
              <a:rPr b="0" lang="pt-BR" sz="23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Jó 42.7-8; Ml 4.1-3; Mt 3.10-12; Jó 1.20-22; Ec 7.14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C36D-2274-4C7F-B565-E88A6084CD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6840" y="1268280"/>
            <a:ext cx="7620120" cy="4897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Calibri"/>
              </a:rPr>
              <a:t>Jó 42.  7-8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Calibri"/>
              </a:rPr>
              <a:t>Ml 4.  1-3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Calibri"/>
              </a:rPr>
              <a:t>Mt 3.  10-12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Calibri"/>
              </a:rPr>
              <a:t>Jó 1.  20-22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Calibri"/>
              </a:rPr>
              <a:t>Ec 7.  14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3A2-5EE0-4079-993C-EF3F1DAF31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7189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341360"/>
            <a:ext cx="7620120" cy="5059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I – Como Receber a Palavra de Deu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3 - Considerando então que nossas afeições e disposições naturais, quando atendidas, tendem a causar mais prejuízo do que benefício em nosso desenvolvimento espiritual, a exortação de Tiago é para que rejeitemos todas essas “erupções” da velha natureza, quando submetidos à prova da fé, pois as coisas de Deus parecerão loucura sob o olhar do interesse e amor próprio. É na palavra, não em nós mesmos, que encontraremos graça, luz e conforto para vencer a prova. Notemos que, conforme diz a Escritura, a palavra já está em nós – ela foi “enxertada” em nós pela pregação, mas pode ser arrebatada, ter pouca duração ou ser sufocada e, assim, ter pouco efeito em um coração que a rejeita para dar ouvidos às suas próprias paixões.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 (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cf. 1 Co 2.14; Mt 16.21-23 ;Fp 4.12-13; Mt 13.19-22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.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DC0D-1812-4BDA-9518-0E944CCF61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6840" y="2205000"/>
            <a:ext cx="7620120" cy="39607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Calibri"/>
              </a:rPr>
              <a:t>1 Co 2.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2800" spc="-1" strike="noStrike">
                <a:solidFill>
                  <a:srgbClr val="0000cc"/>
                </a:solidFill>
                <a:latin typeface="Calibri"/>
              </a:rPr>
              <a:t>14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Calibri"/>
              </a:rPr>
              <a:t>Mt 16.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2800" spc="-1" strike="noStrike">
                <a:solidFill>
                  <a:srgbClr val="0000cc"/>
                </a:solidFill>
                <a:latin typeface="Calibri"/>
              </a:rPr>
              <a:t>21-23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Calibri"/>
              </a:rPr>
              <a:t>Fp 4.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2800" spc="-1" strike="noStrike">
                <a:solidFill>
                  <a:srgbClr val="0000cc"/>
                </a:solidFill>
                <a:latin typeface="Calibri"/>
              </a:rPr>
              <a:t>12-13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cc"/>
                </a:solidFill>
                <a:latin typeface="Calibri"/>
              </a:rPr>
              <a:t>Mt 13.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pl-PL" sz="2800" spc="-1" strike="noStrike">
                <a:solidFill>
                  <a:srgbClr val="0000cc"/>
                </a:solidFill>
                <a:latin typeface="Calibri"/>
              </a:rPr>
              <a:t>19-22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6763-9809-48A1-9D8B-CCD206FF9F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Como Receber a Palavra de Deu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. 19-2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0000"/>
                </a:solidFill>
                <a:latin typeface="Arial"/>
                <a:ea typeface="Arial"/>
              </a:rPr>
              <a:t>II – Não Apenas Ouvir, mas Também Obedecer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2-25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A Verdadeira Religião Cristã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6-27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E927-E9FD-4BA1-B165-A22664052A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8506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628280"/>
            <a:ext cx="7620120" cy="4916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II – Não Apenas Ouvir, mas Também Obedecer</a:t>
            </a:r>
            <a:r>
              <a:rPr b="0" lang="pt-BR" sz="2200" spc="-1" strike="noStrike">
                <a:solidFill>
                  <a:srgbClr val="993300"/>
                </a:solidFill>
                <a:latin typeface="Arial"/>
                <a:ea typeface="Arial"/>
              </a:rPr>
              <a:t>     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2200" spc="-1" strike="noStrike">
                <a:solidFill>
                  <a:srgbClr val="0000cc"/>
                </a:solidFill>
                <a:latin typeface="Calibri"/>
              </a:rPr>
              <a:t>vv. 22-25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2f2b20"/>
                </a:solidFill>
                <a:latin typeface="Calibri"/>
              </a:rPr>
              <a:t>1 - Ainda no contexto da virtude e eficácia da palavra de Deus em salvar aqueles que a recebem, o escritor acrescenta que está se referindo não a um mero ato de ouvi-la “exteriormente”, com os ouvidos da carne, sem uma sincera disposição em cumpri-la. É verdade que a fé vem pelo ouvir da palavra, mas aqueles que ouvem de mau grado nada receberão por isso, apenas estarão se enganando com a falsa idéia de que poderiam ser salvos só por serem meros ouvintes de Cristo. Na verdade, tal atitude é extremamente perigosa, e muitos selarão o seu destino eterno por causa dela.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 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Mt 13.10-15; Lc 13.25-27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CF12-01EA-4E35-AAF9-EE12097732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6840" y="2420640"/>
            <a:ext cx="7620120" cy="23763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Calibri"/>
              </a:rPr>
              <a:t>Mt 13.  10-15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Calibri"/>
              </a:rPr>
              <a:t>Lc 13.  25-27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D5A8-D649-493B-A73D-CFEC1B9E3B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706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267920"/>
            <a:ext cx="7620120" cy="5256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I – Não Apenas Ouvir, mas Também Obedec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8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2 - Atentemos para a comparação feita por Tiago: “</a:t>
            </a:r>
            <a:r>
              <a:rPr b="0" lang="pt-BR" sz="2400" spc="-1" strike="noStrike">
                <a:solidFill>
                  <a:srgbClr val="0000cc"/>
                </a:solidFill>
                <a:latin typeface="Calibri"/>
              </a:rPr>
              <a:t>Se alguém é ouvinte da palavra e não cumpridor, é semelhante...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”, onde ele ilustra o potencial da palavra de Deus para salvar o homem, potencial esse do qual ele se priva ao ser apenas um ouvinte, e não também cumpridor. Todos concordamos que, apontando ao homem os seus pecados e a corrupção da sua natureza, desenganando-o das suas falsas percepções sobre si mesmo, a palavra atua como um espelho. Mas, mesmo assim, para os que apenas a ouvem e não a cumprem, ela é apenas como um espelho, e ele nada pode fazer sobre aquilo que vê nesse espelho divino. Por outro lado, aquele que atenta e persevera na palavra, não somente ouvindo, mas sendo fazedor da obra, o escritor declara que será bem-aventurado no seu feito – bem-aventurança essa já ilustrada por nosso Senhor em outras passagens.</a:t>
            </a:r>
            <a:r>
              <a:rPr b="0" lang="pt-BR" sz="21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1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10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000" spc="-1" strike="noStrike">
                <a:solidFill>
                  <a:srgbClr val="0000cc"/>
                </a:solidFill>
                <a:latin typeface="Calibri"/>
              </a:rPr>
              <a:t>Mt 7.24-27</a:t>
            </a:r>
            <a:r>
              <a:rPr b="0" lang="pt-BR" sz="10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2E2C-3F19-4367-AB1D-8427C604A8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6840" y="4220640"/>
            <a:ext cx="7620120" cy="14274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Mt 7.  24-27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ADD3-5E59-47AE-8748-6C1A3A3CC0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706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267920"/>
            <a:ext cx="7620120" cy="52563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b050"/>
                </a:solidFill>
                <a:latin typeface="Arial"/>
                <a:ea typeface="Arial"/>
              </a:rPr>
              <a:t>II – Não Apenas Ouvir, mas Também Obedecer</a:t>
            </a:r>
            <a:r>
              <a:rPr b="0" lang="pt-BR" sz="24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2f2b20"/>
                </a:solidFill>
                <a:latin typeface="Calibri"/>
              </a:rPr>
              <a:t>3 - A palavra é chamada de lei perfeita da liberdade, primeiro, não apenas no sentido de “norma”, “regra”, “mandamentos”, mas de “princípio”, pois é o único modo de o cristão se conduzir em harmonia com a sua condição de “primícias da criação”, em harmonia com o seu destino de participar da bem-aventurança daqueles que obedecem e se sujeitam a Deus. É, portanto, a lei daqueles que foram libertados da velha natureza, do pecado e das paixões carnais.</a:t>
            </a:r>
            <a:r>
              <a:rPr b="0" lang="pt-BR" sz="3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 Rm 7.22-24; 8.1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C1A9-CEB0-4251-932E-C2F21E2872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852280"/>
            <a:ext cx="7543800" cy="136836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5229360"/>
            <a:ext cx="74865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Baskerville Old Face"/>
              </a:rPr>
              <a:t>CLASSES DE  JOVENS E ADULTOS  DA  EBD</a:t>
            </a:r>
            <a:br>
              <a:rPr sz="2400"/>
            </a:b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AFA-D364-4A5E-80C8-25FA21D858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CaixaDeTexto 5"/>
          <p:cNvSpPr/>
          <p:nvPr/>
        </p:nvSpPr>
        <p:spPr>
          <a:xfrm>
            <a:off x="684360" y="98100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2349360"/>
            <a:ext cx="7620120" cy="32990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Rm 7.  22-24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Rm 8.  1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A2D-C71C-4668-A9FE-B12B5B6C75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Como Receber a Palavra de Deu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. 19-2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993300"/>
                </a:solidFill>
                <a:latin typeface="Arial"/>
                <a:ea typeface="Arial"/>
              </a:rPr>
              <a:t>II – Não Apenas Ouvir, mas Também Obedecer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2-25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III – A Verdadeira Religião Cristã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6-27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3BDA-B4BA-4F56-BAD6-1705A2DE00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922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714320"/>
            <a:ext cx="7620120" cy="46861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marL="361080" indent="-361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II – A Verdadeira Religião Cristã          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2000" spc="-1" strike="noStrike">
                <a:solidFill>
                  <a:srgbClr val="0000cc"/>
                </a:solidFill>
                <a:latin typeface="Calibri"/>
              </a:rPr>
              <a:t>vv. 26-27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61080" indent="-36108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1 - L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embremos que Tiago escreve a irmãos de origem judaica que, provavelmente, ainda mantinham muitos aspectos exteriores da sua devoção a Deus, agora com um novo sentido dado pelo conhecimento de Cristo Jesus. Ou seja, eram homens muito religiosos e zelosos por suas tradições. Religião aqui se refere a essa “piedade” ou “devoção” geralmente externada em palavras e atos, e que podem fazer parte da espiritualidade de cada um para com Deus, mas que devemos ter o cuidado de não torná-las vãs e nos enganarmos com elas por uma atitude incoerente com a fé cristã. No contexto da lição, o que Tiago está dizendo é que todas as expressões exteriores de um crente sobre sua devoção e amor a Deus são falsas e enganadoras se, diante da provação, sua atitude for outra que não aquela que Deus espera de nós: refrearmos nossa língua, isto é, nossas paixões.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At 21.20; 1 Co 14.37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B0C5-110A-410C-9275-A41E62E829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2349000"/>
            <a:ext cx="7620120" cy="25196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At 21.  20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1 Co 14.  37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6D26-8181-4BAB-AE7A-5CA47EDD63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20120" cy="92232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57360"/>
            <a:ext cx="7620120" cy="48434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b050"/>
                </a:solidFill>
                <a:latin typeface="Arial"/>
                <a:ea typeface="Arial"/>
              </a:rPr>
              <a:t>III – A Verdadeira Religião Cristã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65040" indent="-365040"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f2b20"/>
                </a:solidFill>
                <a:latin typeface="Arial"/>
                <a:ea typeface="Arial"/>
              </a:rPr>
              <a:t>2 - 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Não é à toa que aqui o escritor se refere à religião pura e imaculada para com Deus, o Pai – porque Ele jamais aceitou a devoção e piedade que muitos israelitas expressavam exteriormente, mas negavam por um coração perverso e rebelde, ou pelos seus pecados ocultos. E, por esta causa, ele resume também em dois aspectos as características do tipo de piedade que agrada a Deus: “</a:t>
            </a:r>
            <a:r>
              <a:rPr b="0" lang="pt-BR" sz="2200" spc="-1" strike="noStrike">
                <a:solidFill>
                  <a:srgbClr val="0000cc"/>
                </a:solidFill>
                <a:latin typeface="Calibri"/>
              </a:rPr>
              <a:t>Visitar os órfãos e viúvas nas suas tribulações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”. E “</a:t>
            </a:r>
            <a:r>
              <a:rPr b="0" lang="pt-BR" sz="2200" spc="-1" strike="noStrike">
                <a:solidFill>
                  <a:srgbClr val="0000cc"/>
                </a:solidFill>
                <a:latin typeface="Calibri"/>
              </a:rPr>
              <a:t>guardar-se da corrupção do mundo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” abrange tudo aquilo que há no mundo e que contamina a alma, diminuindo o amor por Deus, o Pai – entre as quais coisas se incluem as paixões anteriormente tratadas, como a temeridade no falar e no irar-se.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cf. 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Sl 51.16-17; Is 1.11-15; Mt 15.7-9; Mt 25.31-46; Rm 12.13; Tg 5.9-15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B3F-9A36-4ED9-9A69-30EE254169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6840" y="692280"/>
            <a:ext cx="7620120" cy="54734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 fontScale="99000"/>
          </a:bodyPr>
          <a:p>
            <a:pPr marL="339480" indent="-226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cc"/>
                </a:solidFill>
                <a:latin typeface="Calibri"/>
              </a:rPr>
              <a:t>Sl 51.  16-17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cc"/>
                </a:solidFill>
                <a:latin typeface="Calibri"/>
              </a:rPr>
              <a:t>Is 1.  11-15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cc"/>
                </a:solidFill>
                <a:latin typeface="Calibri"/>
              </a:rPr>
              <a:t>Mt 15.  7-9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cc"/>
                </a:solidFill>
                <a:latin typeface="Calibri"/>
              </a:rPr>
              <a:t>Mt 25.  31-46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cc"/>
                </a:solidFill>
                <a:latin typeface="Calibri"/>
              </a:rPr>
              <a:t>Rm 12.  13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cc"/>
                </a:solidFill>
                <a:latin typeface="Calibri"/>
              </a:rPr>
              <a:t>Tg 5.  9-15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ECA3-B8C5-4EF1-AC48-F31DC12DEE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Como Receber a Palavra de Deu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. 19-2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993300"/>
                </a:solidFill>
                <a:latin typeface="Arial"/>
                <a:ea typeface="Arial"/>
              </a:rPr>
              <a:t>II – Não Apenas Ouvir, mas Também Obedecer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2-25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A Verdadeira Religião Cristã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6-27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FC9D-70B1-428E-A4B3-74606A3679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844640"/>
            <a:ext cx="7620120" cy="45561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Conclusã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2f2b20"/>
                </a:solidFill>
                <a:latin typeface="Calibri"/>
              </a:rPr>
              <a:t>Ser cristão não significa apenas confessar uma fé, mas é também e, mais do que isso, viver pelos princípios dessa fé em todos os momentos e circunstâncias da vida, e vive-los a todo custo, mesmo quando confrontados e incitados a tomar um caminho “mais fácil” que implicaria em abandoná-la. Não nos enganemos com a aparência da devoção exterior, mas façamos dela apenas a camada mais superficial de um amor e uma disposição verdadeira em cumprir a palavra de Deus.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EF98-EB1C-4F62-84D9-1FD510322A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Como Receber a Palavra de Deu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. 19-2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993300"/>
                </a:solidFill>
                <a:latin typeface="Arial"/>
                <a:ea typeface="Arial"/>
              </a:rPr>
              <a:t>II – Não Apenas Ouvir, mas Também Obedecer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2-25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A Verdadeira Religião Cristã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6-27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B70C-9B5A-45E6-A548-EC8682B273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 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"/>
                <a:ea typeface="Arial"/>
              </a:rPr>
              <a:t>Texto Áureo: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“</a:t>
            </a: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E sede cumpridores da palavra e não somente ouvintes, enganando-vos com falsos discursos.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(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Tg 1.22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2AEE-5C77-4164-ABB0-7C8B08F17E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0666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3357720"/>
            <a:ext cx="7620120" cy="1366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Leitura Bíblica</a:t>
            </a:r>
            <a:r>
              <a:rPr b="0" lang="pt-BR" sz="3600" spc="-1" strike="noStrike">
                <a:solidFill>
                  <a:srgbClr val="0000cc"/>
                </a:solidFill>
                <a:latin typeface="Arial"/>
                <a:ea typeface="Arial"/>
              </a:rPr>
              <a:t>: </a:t>
            </a:r>
            <a:r>
              <a:rPr b="0" lang="pt-BR" sz="3600" spc="-1" strike="noStrike">
                <a:solidFill>
                  <a:srgbClr val="0000cc"/>
                </a:solidFill>
                <a:latin typeface="Calibri"/>
              </a:rPr>
              <a:t>Tiago 1. 19  - 27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3604-D124-47D9-A35A-791F91FA89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3284640"/>
            <a:ext cx="7543800" cy="720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280" y="5157720"/>
            <a:ext cx="6460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2f2b20"/>
                </a:solidFill>
                <a:latin typeface="Baskerville Old Face"/>
              </a:rPr>
              <a:t>Primeiro Trimestre de 2021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3385-B4FA-49FF-90EE-C8B8DF2014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CaixaDeTexto 5"/>
          <p:cNvSpPr/>
          <p:nvPr/>
        </p:nvSpPr>
        <p:spPr>
          <a:xfrm>
            <a:off x="684360" y="620640"/>
            <a:ext cx="352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3300"/>
                </a:solidFill>
                <a:latin typeface="Baskerville Old Face"/>
              </a:rPr>
              <a:t>ESCOLA  BÍBLICA  DOMINICAL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9" name="Picture 6" descr="J:\Af2021\EBD2021\EBD2021Trim1Lição01_Tiago\tiago4.jpg"/>
          <p:cNvPicPr/>
          <p:nvPr/>
        </p:nvPicPr>
        <p:blipFill>
          <a:blip r:embed="rId1"/>
          <a:stretch/>
        </p:blipFill>
        <p:spPr>
          <a:xfrm>
            <a:off x="4211640" y="11592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 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993300"/>
                </a:solidFill>
                <a:latin typeface="Arial"/>
                <a:ea typeface="Arial"/>
              </a:rPr>
              <a:t>Texto Áureo: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“</a:t>
            </a:r>
            <a:r>
              <a:rPr b="0" i="1" lang="pt-BR" sz="3600" spc="-1" strike="noStrike">
                <a:solidFill>
                  <a:srgbClr val="0000cc"/>
                </a:solidFill>
                <a:latin typeface="Calibri"/>
              </a:rPr>
              <a:t>E sede cumpridores da palavra e não somente ouvintes, enganando-vos com falsos discursos.”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(</a:t>
            </a:r>
            <a:r>
              <a:rPr b="0" lang="pt-BR" sz="2800" spc="-1" strike="noStrike">
                <a:solidFill>
                  <a:srgbClr val="0000cc"/>
                </a:solidFill>
                <a:latin typeface="Calibri"/>
              </a:rPr>
              <a:t>Tg 1.22</a:t>
            </a:r>
            <a:r>
              <a:rPr b="1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)</a:t>
            </a:r>
            <a:endParaRPr b="0" lang="en-US" sz="3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217E-3630-4253-85CD-AFF4CC8D42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 – Como Receber a Palavra de Deu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. 19-2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993300"/>
                </a:solidFill>
                <a:latin typeface="Arial"/>
                <a:ea typeface="Arial"/>
              </a:rPr>
              <a:t>II – Não Apenas Ouvir, mas Também Obedecer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2-25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A Verdadeira Religião Cristã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6-27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23F6-55D7-4483-A340-1562ADC51D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 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844640"/>
            <a:ext cx="7620120" cy="45561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2f2b20"/>
                </a:solidFill>
                <a:latin typeface="Calibri"/>
              </a:rPr>
              <a:t>Tendo demonstrado o benefício que o cristão pode extrair das circunstâncias mais adversas às quais venha a ser submetido, e que em tudo isto Deus tenciona sempre o seu bem, devendo qualquer pecado atribuído à fraqueza e inconstância do nosso próprio coração; o apóstolo prossegue explicando a eficácia da palavra de Deus em nos tornar idôneos para a salvação a verdadeira felicidade, desde que recebida voluntariamente e com sincera disposição para cumpri-la.</a:t>
            </a:r>
            <a:endParaRPr b="0" lang="en-US" sz="27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2199-4D15-4C1D-B901-E53B024B18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br>
              <a:rPr sz="2400"/>
            </a:br>
            <a:r>
              <a:rPr b="1" lang="pt-BR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Esboç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Introduç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I – Como Receber a Palavra de Deus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. 19-2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993300"/>
                </a:solidFill>
                <a:latin typeface="Arial"/>
                <a:ea typeface="Arial"/>
              </a:rPr>
              <a:t>II – Não Apenas Ouvir, mas Também Obedecer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2-25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III – A Verdadeira Religião Cristã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(vv. 26-27) 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0" lang="pt-BR" sz="3600" spc="-1" strike="noStrike">
                <a:solidFill>
                  <a:srgbClr val="993300"/>
                </a:solidFill>
                <a:latin typeface="Arial"/>
                <a:ea typeface="Arial"/>
              </a:rPr>
              <a:t>Conclusã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DDA-0190-481C-BF97-5BF1F066AE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ESTUDOS NA CARTA DE TIAGO </a:t>
            </a:r>
            <a:br>
              <a:rPr sz="2400"/>
            </a:br>
            <a:r>
              <a:rPr b="1" lang="pt-BR" sz="2400" spc="-1" strike="noStrike">
                <a:solidFill>
                  <a:srgbClr val="00b050"/>
                </a:solidFill>
                <a:latin typeface="Cambria"/>
              </a:rPr>
              <a:t>LIÇÃO 3:  A VERDADEIRA RELIGIÃO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412640"/>
            <a:ext cx="7620120" cy="4987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I – Como Receber a Palavra de Deus </a:t>
            </a:r>
            <a:r>
              <a:rPr b="0" lang="pt-BR" sz="22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2200" spc="-1" strike="noStrike">
                <a:solidFill>
                  <a:srgbClr val="0000cc"/>
                </a:solidFill>
                <a:latin typeface="Calibri"/>
              </a:rPr>
              <a:t>vv. 19-21</a:t>
            </a:r>
            <a:r>
              <a:rPr b="0" lang="pt-BR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t-BR" sz="6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2f2b20"/>
                </a:solidFill>
                <a:latin typeface="Calibri"/>
              </a:rPr>
              <a:t>1 -No verso 18, o escritor inspirado concluiu seu argumento de que nenhum mal pode ser imputado a Deus, pois d’Ele procede apenas aquilo que é bom e perfeito, lembrando que a maior prova da Sua boa vontade para conosco é que Ele nos concedeu o maior privilégio que qualquer outra criatura jamais recebeu – sermos feitos “</a:t>
            </a:r>
            <a:r>
              <a:rPr b="0" lang="pt-BR" sz="2700" spc="-1" strike="noStrike">
                <a:solidFill>
                  <a:srgbClr val="0000cc"/>
                </a:solidFill>
                <a:latin typeface="Calibri"/>
              </a:rPr>
              <a:t>como primícias das suas criaturas</a:t>
            </a:r>
            <a:r>
              <a:rPr b="0" lang="pt-BR" sz="2700" spc="-1" strike="noStrike">
                <a:solidFill>
                  <a:srgbClr val="2f2b20"/>
                </a:solidFill>
                <a:latin typeface="Calibri"/>
              </a:rPr>
              <a:t>”. Através do evangelho, Ele nos gerou de novo, nos santificou e nos fez idôneos, não para o pecado e a corrupção da carne, mas para obras dignas da Sua palavra e daqueles que hão de ser apresentados a Deus como o melhor da criação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.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pt-BR" sz="1100" spc="-1" strike="noStrike">
                <a:solidFill>
                  <a:srgbClr val="0000cc"/>
                </a:solidFill>
                <a:latin typeface="Calibri"/>
              </a:rPr>
              <a:t>1 Pe 1.23-25</a:t>
            </a:r>
            <a:r>
              <a:rPr b="0" lang="pt-BR" sz="11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65F0-9B60-4D87-81DE-54729A7743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6840" y="3213000"/>
            <a:ext cx="7620120" cy="11527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228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cc"/>
                </a:solidFill>
                <a:latin typeface="Calibri"/>
              </a:rPr>
              <a:t>1 Pe 1.  23-25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Espaço Reservado para Número de Slide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6F94-9496-45FF-B295-0E7FC745B8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1:50:47Z</dcterms:created>
  <dc:creator>I.G.V</dc:creator>
  <dc:description/>
  <dc:language>en-US</dc:language>
  <cp:lastModifiedBy>I.G.V</cp:lastModifiedBy>
  <dcterms:modified xsi:type="dcterms:W3CDTF">2021-01-13T00:52:25Z</dcterms:modified>
  <cp:revision>205</cp:revision>
  <dc:subject/>
  <dc:title>ESCOLA  BÍBLICA  DOMINICAL CLASSES DE  JOVENS E ADULTOS  DA  EBD</dc:title>
</cp:coreProperties>
</file>