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23123-760E-426B-B557-CAA5F0F8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F0D09-ACEE-47C1-A84B-EB471075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BAED4-3AA8-4439-8FBD-B2F077D0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16742-5C09-41CB-8AFF-2746634F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2506-8560-43F9-80AB-7D5BD5B1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41E5-BC8A-4CE5-A3C9-B92C3CDF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41C20-0730-402D-9165-2510EBA5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F4AF-B801-4D14-B73A-2788A73B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81C81-BEE8-4B2D-A23C-A6BDC941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9BF33-B5E1-4AA4-AAB1-C0058623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5EFED-7C38-404E-A0C1-F3DDE79E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9DF04-35B0-4A63-A2C1-285DC584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9948-4EA4-46AB-AE7A-818A4DCF95D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5D73-0965-4D51-B48F-DCC90B1A8C2B}" type="datetime">
              <a:rPr b="0" lang="en-US" sz="1200" spc="-1" strike="noStrike">
                <a:solidFill>
                  <a:srgbClr val="dfdcb7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3284640"/>
            <a:ext cx="7543800" cy="720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280" y="5157720"/>
            <a:ext cx="64609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2f2b20"/>
                </a:solidFill>
                <a:latin typeface="Baskerville Old Face"/>
              </a:rPr>
              <a:t>Primeiro Trimestre de 2021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6D36-2087-456C-A989-86497CEB0FD7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" name="CaixaDeTexto 5"/>
          <p:cNvSpPr/>
          <p:nvPr/>
        </p:nvSpPr>
        <p:spPr>
          <a:xfrm>
            <a:off x="684360" y="620640"/>
            <a:ext cx="352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93300"/>
                </a:solidFill>
                <a:latin typeface="Baskerville Old Face"/>
              </a:rPr>
              <a:t>ESCOLA  BÍBLICA  DOMINICAL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Picture 6" descr="J:\Af2021\EBD2021\EBD2021Trim1Lição01_Tiago\tiago4.jpg"/>
          <p:cNvPicPr/>
          <p:nvPr/>
        </p:nvPicPr>
        <p:blipFill>
          <a:blip r:embed="rId1"/>
          <a:stretch/>
        </p:blipFill>
        <p:spPr>
          <a:xfrm>
            <a:off x="4211640" y="115920"/>
            <a:ext cx="410544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71892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 LIÇÃO 2:  O AUTOR DO PECADO 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341360"/>
            <a:ext cx="7620120" cy="50594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b050"/>
                </a:solidFill>
                <a:latin typeface="Arial"/>
                <a:ea typeface="Arial"/>
              </a:rPr>
              <a:t>I – DEUS NÃO É O AUTOR DO PECADO</a:t>
            </a:r>
            <a:r>
              <a:rPr b="0" lang="pt-BR" sz="14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6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2f2b20"/>
                </a:solidFill>
                <a:latin typeface="Calibri"/>
              </a:rPr>
              <a:t>2 - Tiago enfoca a experiência prática, quando somos confrontados por circunstâncias difíceis que, se não as acolhermos com uma atitude espiritual – ou seja, como provas da nossa fé – o pecado parecerá ser o caminho mais fácil a seguir. Nada escapa ao poder e controle de Deus, inclusive o Altíssimo sabe usar até mesmo o pecado do homem para redundar na realização dos Seus santos desígnios. Mas Deus não pode incitar o homem ao mal porque o mal é algo alheio e inadmissível à natureza divina  e não pode incitar outros ao mal. Ainda, Deus não deseja que o homem faça o mal, antes roga que este escolha o bem e assim desfrute dos seus benefícios. Então, o escritor está refutando a tendência muito característica dos descendentes de Adão, de imputar a culpa dos seus pecados a Deus e não considerar que devemos nos queixar sim do nosso próprio fracasso.</a:t>
            </a:r>
            <a:r>
              <a:rPr b="0" lang="pt-BR" sz="24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1100" spc="-1" strike="noStrike">
                <a:solidFill>
                  <a:srgbClr val="2f2b20"/>
                </a:solidFill>
                <a:latin typeface="Calibri"/>
              </a:rPr>
              <a:t>(cf. </a:t>
            </a:r>
            <a:r>
              <a:rPr b="0" lang="pt-BR" sz="1100" spc="-1" strike="noStrike">
                <a:solidFill>
                  <a:srgbClr val="0000cc"/>
                </a:solidFill>
                <a:latin typeface="Calibri"/>
              </a:rPr>
              <a:t>Gn 50.20; At 2.23,36; 1 Jo 1.5; Hc 1.13; Ez 18.23; Gn 3.12; Jó 1.20-22 </a:t>
            </a:r>
            <a:r>
              <a:rPr b="0" lang="pt-BR" sz="11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75AE-8C8F-4466-AB39-045D8C1DFAD4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6840" y="1268280"/>
            <a:ext cx="7620120" cy="48974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343080" indent="-2286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cc"/>
                </a:solidFill>
                <a:latin typeface="Calibri"/>
              </a:rPr>
              <a:t>*Gn 50.  20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cc"/>
                </a:solidFill>
                <a:latin typeface="Calibri"/>
              </a:rPr>
              <a:t>*At 2.  23,36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cc"/>
                </a:solidFill>
                <a:latin typeface="Calibri"/>
              </a:rPr>
              <a:t>1 Jo 1.  5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cc"/>
                </a:solidFill>
                <a:latin typeface="Calibri"/>
              </a:rPr>
              <a:t>*Hc 1.  13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cc"/>
                </a:solidFill>
                <a:latin typeface="Calibri"/>
              </a:rPr>
              <a:t>Ez 18.  23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cc"/>
                </a:solidFill>
                <a:latin typeface="Calibri"/>
              </a:rPr>
              <a:t>*Gn 3.  12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Calibri"/>
              </a:rPr>
              <a:t>Jó 1.20-22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720F-FA6C-47D5-93D2-F80BF69FA01E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2:  O AUTOR DO PECADO </a:t>
            </a:r>
            <a:br>
              <a:rPr sz="2400"/>
            </a:br>
            <a:r>
              <a:rPr b="1" lang="pt-BR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Esboço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3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300" spc="-1" strike="noStrike">
                <a:solidFill>
                  <a:srgbClr val="993300"/>
                </a:solidFill>
                <a:latin typeface="Arial"/>
                <a:ea typeface="Arial"/>
              </a:rPr>
              <a:t>Introdução</a:t>
            </a: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I – DEUS NÃO É O AUTOR DO PECADO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. 13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0000"/>
                </a:solidFill>
                <a:latin typeface="Arial"/>
                <a:ea typeface="Arial"/>
              </a:rPr>
              <a:t>II – O PROCESSO DA TENTAÇÃO AO PECADO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v. 14-16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III – DEUS, O AUTOR DE TODA A PERFEIÇÃO 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v. 17-18) 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300" spc="-1" strike="noStrike">
                <a:solidFill>
                  <a:srgbClr val="993300"/>
                </a:solidFill>
                <a:latin typeface="Arial"/>
                <a:ea typeface="Arial"/>
              </a:rPr>
              <a:t>Conclusão</a:t>
            </a: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8B2D-928A-473C-A399-CFA3052ACDE8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85068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2:  O AUTOR DO PECADO 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628280"/>
            <a:ext cx="7620120" cy="49165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b050"/>
                </a:solidFill>
                <a:latin typeface="Arial"/>
                <a:ea typeface="Arial"/>
              </a:rPr>
              <a:t>II – O PROCESSO DA TENTAÇÃO AO PECADO</a:t>
            </a:r>
            <a:r>
              <a:rPr b="0" lang="pt-BR" sz="2000" spc="-1" strike="noStrike">
                <a:solidFill>
                  <a:srgbClr val="993300"/>
                </a:solidFill>
                <a:latin typeface="Arial"/>
                <a:ea typeface="Arial"/>
              </a:rPr>
              <a:t>     </a:t>
            </a: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0" lang="pt-BR" sz="2000" spc="-1" strike="noStrike">
                <a:solidFill>
                  <a:srgbClr val="0000cc"/>
                </a:solidFill>
                <a:latin typeface="Calibri"/>
              </a:rPr>
              <a:t>vv. 14-16</a:t>
            </a: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" spc="-1" strike="noStrike">
                <a:solidFill>
                  <a:srgbClr val="2f2b20"/>
                </a:solidFill>
                <a:latin typeface="Arial"/>
                <a:ea typeface="Times New Roman"/>
              </a:rPr>
              <a:t>	</a:t>
            </a:r>
            <a:r>
              <a:rPr b="0" lang="pt-BR" sz="2500" spc="-1" strike="noStrike">
                <a:solidFill>
                  <a:srgbClr val="2f2b20"/>
                </a:solidFill>
                <a:latin typeface="Calibri"/>
              </a:rPr>
              <a:t>1 - Tendo afirmado a total isenção de Deus no que diz respeito à origem da tentação e do pecado, Tiago explica como e onde se dá todo o processo. Não são as circunstâncias exteriores a causa determinante da tentação – pois Deus, no Seu bom propósito de nos aprovar, não permite que venha sobre nós prova maior do que possamos suportar, e sempre dará um escape. Nem mesmo Satanás, que é chamado de “tentador” pode ser responsabilizado pelos pecados que cometemos, porquanto seus “argumentos” contra nós já foram calados por Cristo na cruz do Calvário e não têm mais nenhuma força para nos convencer a pecar, podendo ele ser resistido e afugentado por nós, a exemplo do que fez o próprio Senhor Jesus.</a:t>
            </a:r>
            <a:r>
              <a:rPr b="0" lang="pt-BR" sz="24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1100" spc="-1" strike="noStrike">
                <a:solidFill>
                  <a:srgbClr val="2f2b20"/>
                </a:solidFill>
                <a:latin typeface="Calibri"/>
              </a:rPr>
              <a:t>(cf. </a:t>
            </a:r>
            <a:r>
              <a:rPr b="0" lang="pt-BR" sz="1100" spc="-1" strike="noStrike">
                <a:solidFill>
                  <a:srgbClr val="0000cc"/>
                </a:solidFill>
                <a:latin typeface="Calibri"/>
              </a:rPr>
              <a:t>1 Co 10.13; Rm 8.31, 33-34; Ap 12.10-11; Tg 4.7; 1 Pe 5.8-9</a:t>
            </a:r>
            <a:r>
              <a:rPr b="0" lang="pt-BR" sz="11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2376-15D7-4962-A720-3401961EA1B4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6840" y="2421000"/>
            <a:ext cx="7620120" cy="37447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343080" indent="-228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cc"/>
                </a:solidFill>
                <a:latin typeface="Calibri"/>
              </a:rPr>
              <a:t>1 Co 10.</a:t>
            </a:r>
            <a:r>
              <a:rPr b="0" lang="pt-BR" sz="3200" spc="-1" strike="noStrike">
                <a:solidFill>
                  <a:srgbClr val="0000cc"/>
                </a:solidFill>
                <a:latin typeface="Calibri"/>
              </a:rPr>
              <a:t>  </a:t>
            </a:r>
            <a:r>
              <a:rPr b="0" lang="pl-PL" sz="3200" spc="-1" strike="noStrike">
                <a:solidFill>
                  <a:srgbClr val="0000cc"/>
                </a:solidFill>
                <a:latin typeface="Calibri"/>
              </a:rPr>
              <a:t>13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cc"/>
                </a:solidFill>
                <a:latin typeface="Calibri"/>
              </a:rPr>
              <a:t>Rm 8.</a:t>
            </a:r>
            <a:r>
              <a:rPr b="0" lang="pt-BR" sz="3200" spc="-1" strike="noStrike">
                <a:solidFill>
                  <a:srgbClr val="0000cc"/>
                </a:solidFill>
                <a:latin typeface="Calibri"/>
              </a:rPr>
              <a:t>  </a:t>
            </a:r>
            <a:r>
              <a:rPr b="0" lang="pl-PL" sz="3200" spc="-1" strike="noStrike">
                <a:solidFill>
                  <a:srgbClr val="0000cc"/>
                </a:solidFill>
                <a:latin typeface="Calibri"/>
              </a:rPr>
              <a:t>31, 33-34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cc"/>
                </a:solidFill>
                <a:latin typeface="Calibri"/>
              </a:rPr>
              <a:t>Ap 12.</a:t>
            </a:r>
            <a:r>
              <a:rPr b="0" lang="pt-BR" sz="3200" spc="-1" strike="noStrike">
                <a:solidFill>
                  <a:srgbClr val="0000cc"/>
                </a:solidFill>
                <a:latin typeface="Calibri"/>
              </a:rPr>
              <a:t>  </a:t>
            </a:r>
            <a:r>
              <a:rPr b="0" lang="pl-PL" sz="3200" spc="-1" strike="noStrike">
                <a:solidFill>
                  <a:srgbClr val="0000cc"/>
                </a:solidFill>
                <a:latin typeface="Calibri"/>
              </a:rPr>
              <a:t>10-11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cc"/>
                </a:solidFill>
                <a:latin typeface="Calibri"/>
              </a:rPr>
              <a:t>Tg 4.</a:t>
            </a:r>
            <a:r>
              <a:rPr b="0" lang="pt-BR" sz="3200" spc="-1" strike="noStrike">
                <a:solidFill>
                  <a:srgbClr val="0000cc"/>
                </a:solidFill>
                <a:latin typeface="Calibri"/>
              </a:rPr>
              <a:t>  </a:t>
            </a:r>
            <a:r>
              <a:rPr b="0" lang="pl-PL" sz="3200" spc="-1" strike="noStrike">
                <a:solidFill>
                  <a:srgbClr val="0000cc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cc"/>
                </a:solidFill>
                <a:latin typeface="Calibri"/>
              </a:rPr>
              <a:t>1 Pe 5.</a:t>
            </a:r>
            <a:r>
              <a:rPr b="0" lang="pt-BR" sz="3200" spc="-1" strike="noStrike">
                <a:solidFill>
                  <a:srgbClr val="0000cc"/>
                </a:solidFill>
                <a:latin typeface="Calibri"/>
              </a:rPr>
              <a:t>  </a:t>
            </a:r>
            <a:r>
              <a:rPr b="0" lang="pl-PL" sz="3200" spc="-1" strike="noStrike">
                <a:solidFill>
                  <a:srgbClr val="0000cc"/>
                </a:solidFill>
                <a:latin typeface="Calibri"/>
              </a:rPr>
              <a:t>8-9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8563-B6DC-4F51-A781-6CCB0E74183C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20120" cy="70632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2:  O AUTOR DO PECADO 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267920"/>
            <a:ext cx="7620120" cy="52563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b050"/>
                </a:solidFill>
                <a:latin typeface="Arial"/>
                <a:ea typeface="Arial"/>
              </a:rPr>
              <a:t>II – O PROCESSO DA TENTAÇÃO AO PECADO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2f2b20"/>
                </a:solidFill>
                <a:latin typeface="Arial"/>
                <a:ea typeface="Arial"/>
              </a:rPr>
              <a:t>	</a:t>
            </a:r>
            <a:r>
              <a:rPr b="0" lang="pt-BR" sz="1700" spc="-1" strike="noStrike">
                <a:solidFill>
                  <a:srgbClr val="2f2b20"/>
                </a:solidFill>
                <a:latin typeface="Arial"/>
                <a:ea typeface="Arial"/>
              </a:rPr>
              <a:t>	</a:t>
            </a:r>
            <a:r>
              <a:rPr b="0" lang="pt-BR" sz="2100" spc="-1" strike="noStrike">
                <a:solidFill>
                  <a:srgbClr val="2f2b20"/>
                </a:solidFill>
                <a:latin typeface="Calibri"/>
              </a:rPr>
              <a:t>2 - Resta então que aceitemos humildemente a verdade de que “</a:t>
            </a:r>
            <a:r>
              <a:rPr b="0" lang="pt-BR" sz="2100" spc="-1" strike="noStrike">
                <a:solidFill>
                  <a:srgbClr val="0000cc"/>
                </a:solidFill>
                <a:latin typeface="Calibri"/>
              </a:rPr>
              <a:t>cada um é tentado quando atraído e engodado pela sua própria concupiscência</a:t>
            </a:r>
            <a:r>
              <a:rPr b="0" lang="pt-BR" sz="2100" spc="-1" strike="noStrike">
                <a:solidFill>
                  <a:srgbClr val="2f2b20"/>
                </a:solidFill>
                <a:latin typeface="Calibri"/>
              </a:rPr>
              <a:t>”. O homem caiu em Adão e ficou sujeito ao poder do pecado – poder esse que engana o coração e o faz desejar o que é contrário a Deus, de tal modo que esse comportamento pode ser chamado também de “natureza pecaminosa”, pois é uma tendência recorrente e a característica predominante do homem natural, do mundo. A tentação é algo tão perigoso que Cristo, o único a ser tentado em tudo sem nunca pecar, nos orienta a pedir graça a Deus para escaparmos dessa terrível circunstância. Mas também podemos notar nas palavras do escritor uma gravidade progressiva no desenrolar desse processo, onde o simples desejo pelo pecado, uma vez alimentado e acolhido no coração como uma possibilidade, já constitui transgressão, e o fiel deve buscar de Deus perdão e graça para mortificar tal disposição maligna e santificar sua mente. Já o pecado “</a:t>
            </a:r>
            <a:r>
              <a:rPr b="0" lang="pt-BR" sz="2100" spc="-1" strike="noStrike">
                <a:solidFill>
                  <a:srgbClr val="0000cc"/>
                </a:solidFill>
                <a:latin typeface="Calibri"/>
              </a:rPr>
              <a:t>consumado</a:t>
            </a:r>
            <a:r>
              <a:rPr b="0" lang="pt-BR" sz="2100" spc="-1" strike="noStrike">
                <a:solidFill>
                  <a:srgbClr val="2f2b20"/>
                </a:solidFill>
                <a:latin typeface="Calibri"/>
              </a:rPr>
              <a:t>” se refere ao pecado realizado e impenitente, que resultará em morte eterna.</a:t>
            </a: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1100" spc="-1" strike="noStrike">
                <a:solidFill>
                  <a:srgbClr val="2f2b20"/>
                </a:solidFill>
                <a:latin typeface="Calibri"/>
              </a:rPr>
              <a:t>(cf. </a:t>
            </a:r>
            <a:r>
              <a:rPr b="0" lang="pt-BR" sz="1100" spc="-1" strike="noStrike">
                <a:solidFill>
                  <a:srgbClr val="0000cc"/>
                </a:solidFill>
                <a:latin typeface="Calibri"/>
              </a:rPr>
              <a:t>Rm 8.5, 8; Ef 4.22; Mt 26.41; Hb 4.15; Mt 5.28-30; Rm 6.11-14,23; Gl 6.7-9</a:t>
            </a:r>
            <a:r>
              <a:rPr b="0" lang="pt-BR" sz="11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7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B142-4C5A-41E1-8365-96FC912A4297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6840" y="2349360"/>
            <a:ext cx="7620120" cy="32990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Calibri"/>
              </a:rPr>
              <a:t>Rm 8.  5, 8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Calibri"/>
              </a:rPr>
              <a:t>Mt 26.  41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Calibri"/>
              </a:rPr>
              <a:t>Hb 4.  14-16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Calibri"/>
              </a:rPr>
              <a:t>Mt 5.  28-30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Calibri"/>
              </a:rPr>
              <a:t>Rm 6.  11-14,23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9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1D3A-A32A-4744-91E0-E42D0E5FD133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2:  O AUTOR DO PECADO </a:t>
            </a:r>
            <a:br>
              <a:rPr sz="2400"/>
            </a:br>
            <a:r>
              <a:rPr b="1" lang="pt-BR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Esboço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3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300" spc="-1" strike="noStrike">
                <a:solidFill>
                  <a:srgbClr val="993300"/>
                </a:solidFill>
                <a:latin typeface="Arial"/>
                <a:ea typeface="Arial"/>
              </a:rPr>
              <a:t>Introdução</a:t>
            </a: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I – DEUS NÃO É O AUTOR DO PECADO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. 13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II – O PROCESSO DA TENTAÇÃO AO PECADO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v. 14-16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0000"/>
                </a:solidFill>
                <a:latin typeface="Arial"/>
                <a:ea typeface="Arial"/>
              </a:rPr>
              <a:t>III – DEUS, O AUTOR DE TODA A PERFEIÇÃO 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v. 17-18) 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300" spc="-1" strike="noStrike">
                <a:solidFill>
                  <a:srgbClr val="993300"/>
                </a:solidFill>
                <a:latin typeface="Arial"/>
                <a:ea typeface="Arial"/>
              </a:rPr>
              <a:t>Conclusão</a:t>
            </a: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2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8EAB-2385-4E69-BF14-535CFBF8EB77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20120" cy="92232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2:  O AUTOR DO PECADO 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714320"/>
            <a:ext cx="7620120" cy="46861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 marL="361080" indent="-361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b050"/>
                </a:solidFill>
                <a:latin typeface="Arial"/>
                <a:ea typeface="Arial"/>
              </a:rPr>
              <a:t>III – DEUS, O AUTOR DE TODA A PERFEIÇÃO          </a:t>
            </a: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0" lang="pt-BR" sz="2000" spc="-1" strike="noStrike">
                <a:solidFill>
                  <a:srgbClr val="0000cc"/>
                </a:solidFill>
                <a:latin typeface="Calibri"/>
              </a:rPr>
              <a:t>vv. 17-18</a:t>
            </a: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61080" indent="-361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2b2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2f2b2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2f2b20"/>
                </a:solidFill>
                <a:latin typeface="Arial"/>
                <a:ea typeface="Arial"/>
              </a:rPr>
              <a:t>1 - </a:t>
            </a: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Muitos crentes erram no conceito que fazem de Deus, seja duvidando daquilo que as Escrituras ensinam sobre o que Ele é e faz, seja atribuindo-lhe definições completamente equivocadas, como no caso em pauta. Deus não é e não pode ser autor de nenhuma imperfeição ou mal, como é o pecado. Pelo contrário, d’Ele vem toda boa dádiva e todo dom perfeito; tudo o que Deus faz é bom e perfeito. Creiamos e glorifiquemos a Deus pela Sua bondade não somente quando ela parecer mais patente aos nossos olhos, mas também quando ela estiver oculta sob as nuvens passageiras da angústia e aflição. Deus também é o Pai das luzes, em quem não há mudança, nem sombra de variação, pois tão certo quanto o sol e a lua sempre darão luz à criação, o caráter e propósito do nosso Deus jamais mudará – tudo o que vier d’Ele sempre visará o nosso aperfeiçoamento, nossa enlevação espiritual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5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3B60-47EB-4C5B-B810-6DA4334079ED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2:  O AUTOR DO PECADO </a:t>
            </a:r>
            <a:br>
              <a:rPr sz="2400"/>
            </a:br>
            <a:r>
              <a:rPr b="1" lang="pt-BR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Esboço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3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300" spc="-1" strike="noStrike">
                <a:solidFill>
                  <a:srgbClr val="993300"/>
                </a:solidFill>
                <a:latin typeface="Arial"/>
                <a:ea typeface="Arial"/>
              </a:rPr>
              <a:t>Introdução</a:t>
            </a: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I – DEUS NÃO É O AUTOR DO PECADO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. 13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II – O PROCESSO DA TENTAÇÃO AO PECADO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v. 14-16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III – DEUS, O AUTOR DE TODA A PERFEIÇÃO 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v. 17-18) 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300" spc="-1" strike="noStrike">
                <a:solidFill>
                  <a:srgbClr val="ff0000"/>
                </a:solidFill>
                <a:latin typeface="Arial"/>
                <a:ea typeface="Arial"/>
              </a:rPr>
              <a:t>Conclusão</a:t>
            </a: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8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C518-CA97-4F6A-B67A-68DE6F5F849B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852280"/>
            <a:ext cx="7543800" cy="136836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b050"/>
                </a:solidFill>
                <a:latin typeface="Cambria"/>
              </a:rPr>
              <a:t>LIÇÃO 2:  O AUTOR DO PECADO 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5229360"/>
            <a:ext cx="74865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70c0"/>
                </a:solidFill>
                <a:latin typeface="Baskerville Old Face"/>
              </a:rPr>
              <a:t>CLASSES DE  JOVENS E ADULTOS  DA  EBD</a:t>
            </a:r>
            <a:br>
              <a:rPr sz="2400"/>
            </a:b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8F26-422B-49F7-9341-326755321052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CaixaDeTexto 5"/>
          <p:cNvSpPr/>
          <p:nvPr/>
        </p:nvSpPr>
        <p:spPr>
          <a:xfrm>
            <a:off x="684360" y="981000"/>
            <a:ext cx="748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93300"/>
                </a:solidFill>
                <a:latin typeface="Baskerville Old Face"/>
              </a:rPr>
              <a:t>ESCOLA  BÍBLICA  DOMINICAL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 LIÇÃO 2:  O AUTOR DO PECADO 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844640"/>
            <a:ext cx="7620120" cy="45561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b050"/>
                </a:solidFill>
                <a:latin typeface="Arial"/>
                <a:ea typeface="Arial"/>
              </a:rPr>
              <a:t>Conclusão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2f2b20"/>
                </a:solidFill>
                <a:latin typeface="Calibri"/>
              </a:rPr>
              <a:t>Consideremos como devemos ser humildes diante da provação para que não caiamos no engano do pecado; mas também tenhamos cuidado com a tendência natural de procurar “culpados” pelas nossas dificuldades. Descansemos em Deus, que não muda, e que a Seu tempo nos fará ver o quanto Ele nos tem agraciado com até as maiores provações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1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869C-A6A6-4F0D-9004-70D3C9EA2DC1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2:  O AUTOR DO PECADO </a:t>
            </a:r>
            <a:br>
              <a:rPr sz="2400"/>
            </a:br>
            <a:r>
              <a:rPr b="1" lang="pt-BR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Esboço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3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300" spc="-1" strike="noStrike">
                <a:solidFill>
                  <a:srgbClr val="993300"/>
                </a:solidFill>
                <a:latin typeface="Arial"/>
                <a:ea typeface="Arial"/>
              </a:rPr>
              <a:t>Introdução</a:t>
            </a: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I – DEUS NÃO É O AUTOR DO PECADO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. 13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II – O PROCESSO DA TENTAÇÃO AO PECADO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v. 14-16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III – DEUS, O AUTOR DE TODA A PERFEIÇÃO 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v. 17-18) 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300" spc="-1" strike="noStrike">
                <a:solidFill>
                  <a:srgbClr val="993300"/>
                </a:solidFill>
                <a:latin typeface="Arial"/>
                <a:ea typeface="Arial"/>
              </a:rPr>
              <a:t>Conclusão</a:t>
            </a: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4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6BE4-1CF1-455E-8B5C-4F25EAA78F85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 LIÇÃO 2:  O AUTOR DO PECADO 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"/>
                <a:ea typeface="Arial"/>
              </a:rPr>
              <a:t>Texto Áureo: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cc"/>
                </a:solidFill>
                <a:latin typeface="Calibri"/>
              </a:rPr>
              <a:t>“</a:t>
            </a:r>
            <a:r>
              <a:rPr b="0" i="1" lang="pt-BR" sz="3600" spc="-1" strike="noStrike">
                <a:solidFill>
                  <a:srgbClr val="0000cc"/>
                </a:solidFill>
                <a:latin typeface="Calibri"/>
              </a:rPr>
              <a:t>... cada um é tentado, quando atraído e engodado pela sua própria concupiscência.”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(</a:t>
            </a:r>
            <a:r>
              <a:rPr b="0" lang="pt-BR" sz="2800" spc="-1" strike="noStrike">
                <a:solidFill>
                  <a:srgbClr val="0000cc"/>
                </a:solidFill>
                <a:latin typeface="Calibri"/>
              </a:rPr>
              <a:t>Tg 1.14</a:t>
            </a:r>
            <a:r>
              <a:rPr b="1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)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54C5-9E80-4A0B-81B4-73420CAFE0EB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3284640"/>
            <a:ext cx="7543800" cy="720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71280" y="5157720"/>
            <a:ext cx="64609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2f2b20"/>
                </a:solidFill>
                <a:latin typeface="Baskerville Old Face"/>
              </a:rPr>
              <a:t>Primeiro Trimestre de 2021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0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C6AF-101E-4E5A-8851-65CD71E3B011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1" name="CaixaDeTexto 5"/>
          <p:cNvSpPr/>
          <p:nvPr/>
        </p:nvSpPr>
        <p:spPr>
          <a:xfrm>
            <a:off x="684360" y="620640"/>
            <a:ext cx="352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93300"/>
                </a:solidFill>
                <a:latin typeface="Baskerville Old Face"/>
              </a:rPr>
              <a:t>ESCOLA  BÍBLICA  DOMINICAL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2" name="Picture 6" descr="J:\Af2021\EBD2021\EBD2021Trim1Lição01_Tiago\tiago4.jpg"/>
          <p:cNvPicPr/>
          <p:nvPr/>
        </p:nvPicPr>
        <p:blipFill>
          <a:blip r:embed="rId1"/>
          <a:stretch/>
        </p:blipFill>
        <p:spPr>
          <a:xfrm>
            <a:off x="4211640" y="115920"/>
            <a:ext cx="410544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06668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2:  O AUTOR DO PECADO 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3357720"/>
            <a:ext cx="7620120" cy="13665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Leitura Bíblica</a:t>
            </a:r>
            <a:r>
              <a:rPr b="0" lang="pt-BR" sz="3600" spc="-1" strike="noStrike">
                <a:solidFill>
                  <a:srgbClr val="0000cc"/>
                </a:solidFill>
                <a:latin typeface="Arial"/>
                <a:ea typeface="Arial"/>
              </a:rPr>
              <a:t>: </a:t>
            </a:r>
            <a:r>
              <a:rPr b="0" lang="pt-BR" sz="3600" spc="-1" strike="noStrike">
                <a:solidFill>
                  <a:srgbClr val="0000cc"/>
                </a:solidFill>
                <a:latin typeface="Calibri"/>
              </a:rPr>
              <a:t>Tiago 1. 13  -  18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EBBE-FBDD-4777-83BB-1252D8EF9DFD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 LIÇÃO 2:  O AUTOR DO PECADO 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"/>
                <a:ea typeface="Arial"/>
              </a:rPr>
              <a:t>Texto Áureo: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cc"/>
                </a:solidFill>
                <a:latin typeface="Calibri"/>
              </a:rPr>
              <a:t>“</a:t>
            </a:r>
            <a:r>
              <a:rPr b="0" i="1" lang="pt-BR" sz="3600" spc="-1" strike="noStrike">
                <a:solidFill>
                  <a:srgbClr val="0000cc"/>
                </a:solidFill>
                <a:latin typeface="Calibri"/>
              </a:rPr>
              <a:t>... cada um é tentado, quando atraído e engodado pela sua própria concupiscência.”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(</a:t>
            </a:r>
            <a:r>
              <a:rPr b="0" lang="pt-BR" sz="2800" spc="-1" strike="noStrike">
                <a:solidFill>
                  <a:srgbClr val="0000cc"/>
                </a:solidFill>
                <a:latin typeface="Calibri"/>
              </a:rPr>
              <a:t>Tg 1.14</a:t>
            </a:r>
            <a:r>
              <a:rPr b="1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)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3139-CA26-4107-A808-42F1B0B054E7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2:  O AUTOR DO PECADO </a:t>
            </a:r>
            <a:br>
              <a:rPr sz="2400"/>
            </a:br>
            <a:r>
              <a:rPr b="1" lang="pt-BR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Esboço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3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300" spc="-1" strike="noStrike">
                <a:solidFill>
                  <a:srgbClr val="993300"/>
                </a:solidFill>
                <a:latin typeface="Arial"/>
                <a:ea typeface="Arial"/>
              </a:rPr>
              <a:t>Introdução</a:t>
            </a: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I – DEUS NÃO É O AUTOR DO PECADO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. 13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II – O PROCESSO DA TENTAÇÃO AO PECADO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v. 14-16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III – DEUS, O AUTOR DE TODA A PERFEIÇÃO 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v. 17-18) 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300" spc="-1" strike="noStrike">
                <a:solidFill>
                  <a:srgbClr val="993300"/>
                </a:solidFill>
                <a:latin typeface="Arial"/>
                <a:ea typeface="Arial"/>
              </a:rPr>
              <a:t>Conclusão</a:t>
            </a: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07A1-9B07-40FF-895A-DE9BAEFE457B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 LIÇÃO 2:  O AUTOR DO PECADO 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844640"/>
            <a:ext cx="7620120" cy="45561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3300"/>
                </a:solidFill>
                <a:latin typeface="Arial"/>
                <a:ea typeface="Arial"/>
              </a:rPr>
              <a:t>Introdução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pt-BR" sz="2700" spc="-1" strike="noStrike">
                <a:solidFill>
                  <a:srgbClr val="2f2b20"/>
                </a:solidFill>
                <a:latin typeface="Calibri"/>
              </a:rPr>
              <a:t>Tiago iniciou sua carta exortando os fieis a receberem com alegria as provações que lhes fossem enviadas, tendo em vista os benefícios espirituais que colheriam da paciência exercitada e do senso de aprovação diante de Deus sob tais circunstâncias. Mas agora o escritor passa a considerar o caso daqueles que, submetidos à prova, não resistem e pecam; e demonstra que Deus tanto não tem prazer nesse tipo de tentação como também não é o autor de qualquer imperfeição ou fracasso dos homens.</a:t>
            </a:r>
            <a:endParaRPr b="0" lang="en-US" sz="27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CD79-CB80-4364-9F51-C541BD270A21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2:  O AUTOR DO PECADO </a:t>
            </a:r>
            <a:br>
              <a:rPr sz="2400"/>
            </a:br>
            <a:r>
              <a:rPr b="1" lang="pt-BR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Esboço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3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300" spc="-1" strike="noStrike">
                <a:solidFill>
                  <a:srgbClr val="993300"/>
                </a:solidFill>
                <a:latin typeface="Arial"/>
                <a:ea typeface="Arial"/>
              </a:rPr>
              <a:t>Introdução</a:t>
            </a: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  <a:ea typeface="Arial"/>
              </a:rPr>
              <a:t>I – DEUS NÃO É O AUTOR DO PECADO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. 13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II – O PROCESSO DA TENTAÇÃO AO PECADO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v. 14-16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III – DEUS, O AUTOR DE TODA A PERFEIÇÃO 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(vv. 17-18) 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300" spc="-1" strike="noStrike">
                <a:solidFill>
                  <a:srgbClr val="993300"/>
                </a:solidFill>
                <a:latin typeface="Arial"/>
                <a:ea typeface="Arial"/>
              </a:rPr>
              <a:t>Conclusão</a:t>
            </a: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105A-551B-49A9-BB05-61C80A3CC2F5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20120" cy="9936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2:  O AUTOR DO PECADO 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412640"/>
            <a:ext cx="7620120" cy="49878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I – DEUS NÃO É O AUTOR DO PECADO</a:t>
            </a:r>
            <a:r>
              <a:rPr b="0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	</a:t>
            </a:r>
            <a:r>
              <a:rPr b="0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	</a:t>
            </a:r>
            <a:r>
              <a:rPr b="0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	</a:t>
            </a:r>
            <a:r>
              <a:rPr b="0" lang="pt-BR" sz="18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0" lang="pt-BR" sz="1800" spc="-1" strike="noStrike">
                <a:solidFill>
                  <a:srgbClr val="0000cc"/>
                </a:solidFill>
                <a:latin typeface="Calibri"/>
              </a:rPr>
              <a:t>vv. 13</a:t>
            </a:r>
            <a:r>
              <a:rPr b="0" lang="pt-BR" sz="18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t-BR" sz="6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t-BR" sz="13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pt-BR" sz="2500" spc="-1" strike="noStrike">
                <a:solidFill>
                  <a:srgbClr val="2f2b20"/>
                </a:solidFill>
                <a:latin typeface="Calibri"/>
              </a:rPr>
              <a:t>Ficou bastante claro que as “provações” de que Tiago fala nos versos iniciais deste capítulo são circunstâncias que se abatem ou “são enviadas” sobre os fieis para testar a sua fé, e não “tentações” no sentido próprio da palavra. Mas, a partir do presente verso, o autor claramente emprega a palavra em outro sentido – no sentido da “</a:t>
            </a:r>
            <a:r>
              <a:rPr b="0" lang="pt-BR" sz="2500" spc="-1" strike="noStrike">
                <a:solidFill>
                  <a:srgbClr val="0000cc"/>
                </a:solidFill>
                <a:latin typeface="Calibri"/>
              </a:rPr>
              <a:t>tentação</a:t>
            </a:r>
            <a:r>
              <a:rPr b="0" lang="pt-BR" sz="2500" spc="-1" strike="noStrike">
                <a:solidFill>
                  <a:srgbClr val="2f2b20"/>
                </a:solidFill>
                <a:latin typeface="Calibri"/>
              </a:rPr>
              <a:t>” tal como a definimos. As provações certamente vêm de Deus, para aprimoramento e felicidade dos fieis, dos perseverantes (v. </a:t>
            </a:r>
            <a:r>
              <a:rPr b="0" lang="pt-BR" sz="2500" spc="-1" strike="noStrike">
                <a:solidFill>
                  <a:srgbClr val="0000cc"/>
                </a:solidFill>
                <a:latin typeface="Calibri"/>
              </a:rPr>
              <a:t>12</a:t>
            </a:r>
            <a:r>
              <a:rPr b="0" lang="pt-BR" sz="2500" spc="-1" strike="noStrike">
                <a:solidFill>
                  <a:srgbClr val="2f2b20"/>
                </a:solidFill>
                <a:latin typeface="Calibri"/>
              </a:rPr>
              <a:t>); mas, quando os inconstantes e néscios não veem nelas senão ocasião para pecar e expor o que há em seus corações, Deus não pode ser responsabilizado pelo fracasso de quem, ao invés de vencer, se deixa vencer pelas suas próprias paixões.</a:t>
            </a:r>
            <a:r>
              <a:rPr b="0" lang="pt-BR" sz="23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1100" spc="-1" strike="noStrike">
                <a:solidFill>
                  <a:srgbClr val="2f2b20"/>
                </a:solidFill>
                <a:latin typeface="Calibri"/>
              </a:rPr>
              <a:t>(cf. </a:t>
            </a:r>
            <a:r>
              <a:rPr b="0" lang="pt-BR" sz="1100" spc="-1" strike="noStrike">
                <a:solidFill>
                  <a:srgbClr val="0000cc"/>
                </a:solidFill>
                <a:latin typeface="Calibri"/>
              </a:rPr>
              <a:t>Rm 8.35-39</a:t>
            </a:r>
            <a:r>
              <a:rPr b="0" lang="pt-BR" sz="11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03E1-A61E-4F4B-84CD-C23CA9692139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6840" y="3213000"/>
            <a:ext cx="7620120" cy="11527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34308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cc"/>
                </a:solidFill>
                <a:latin typeface="Calibri"/>
              </a:rPr>
              <a:t>Rm 8. 35-39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061E-DDB1-488A-9513-0F5BCBC31F4B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2T01:50:47Z</dcterms:created>
  <dc:creator>I.G.V</dc:creator>
  <dc:description/>
  <dc:language>en-US</dc:language>
  <cp:lastModifiedBy>Cássia</cp:lastModifiedBy>
  <dcterms:modified xsi:type="dcterms:W3CDTF">2021-01-05T20:15:02Z</dcterms:modified>
  <cp:revision>190</cp:revision>
  <dc:subject/>
  <dc:title>ESCOLA  BÍBLICA  DOMINICAL CLASSES DE  JOVENS E ADULTOS  DA  EBD</dc:title>
</cp:coreProperties>
</file>