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F3F2-7C86-457C-B891-EBB3B7562B1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841A-314D-4C8E-A8FF-42C5F6E826F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47A6-D0C6-4166-8904-1E1FA6473C3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0A2-7A7D-4C4D-A84A-C77AB57337C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F21D-E818-4B71-8429-7A76338ACE3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BA26-1B30-435A-B155-4CCA69AD343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3087-F1E8-44BE-823B-A4ABE1F0B4D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F4F5-0924-4A96-9F53-3EC014596E2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3546-2D9D-4444-A578-9A4A8CD6705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444B-DA24-4AAF-8A39-EA8D3A22B5B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842B-59FB-4FCD-92D7-603F318D81B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4004-47E6-4478-AE2F-030A2881F03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0BD-3B68-407F-AE1A-068299A2FB0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7B75-2381-4155-85FD-A780148E385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537D-CB47-405F-A3D9-869755767B6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C0BD-AAA9-412B-883C-814F1FA9E32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8E7E-094C-4DCE-A1B3-69B2C132C72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C86C-AB63-4083-8830-4A7F723BD63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1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9574-5F74-46F4-810F-9F4B00C4EC5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1143000"/>
            <a:ext cx="411480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1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49E6-E0DB-47AC-9132-726964A7B24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1143000"/>
            <a:ext cx="41148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1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A93A-E1C5-4CB5-B53C-BAF815965A5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1143000"/>
            <a:ext cx="41148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2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65D4-9726-4E92-8E50-16A80C530D4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2D19-4B1F-4003-B064-4B100E15194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98E5-C715-4C28-85BB-19451AF41A1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8705-C5F3-4B90-91C6-3B365F66644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AE1C6-7425-4EF8-A2F9-5F447DC1E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EA73-44AB-4C52-90B7-7CB4CE65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5B2EF-CF86-422E-A815-4FE6E2812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80F8-DCDE-4125-9F27-2C525F012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B893B-34D4-4F91-9AFF-34C36E33F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EB777-6315-403C-BF99-D897D9384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CAECD-AB76-4C37-B839-41E2780F5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66E79-59EE-49BD-8EDC-FD4B8507B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996D6-935F-48E5-BD02-428D290BF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97FC-D5E6-4F2C-ACC3-956DF9F65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9BA09-BACC-41BE-BFD6-85CB04D42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3E07-ACD0-448F-A4F6-6CB4DA5CA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5D42-31CC-4C8D-99E0-DE2EACA8A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53C25-6C64-43C9-BCF9-D8FF75820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A1473-6FFE-4EBC-B5A7-F02D7612B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2AF4D-6AB9-4C6D-BF25-F9B73706A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1908C-A83F-455C-AAFB-B0B9B9838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1841-1CF0-44EA-8765-FC0D416E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CA62C-5756-4BC0-BABA-A24B4C84C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6982-7569-4745-84B4-1D51D8F5A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E6F2-E5AB-4552-8788-C07BE1B1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0330-6B2D-4206-9CB3-96C40C53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7D7E-4831-49C5-87C7-1E537735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6401-3111-4CBD-97DC-F9870E389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9032-C37F-4A3B-BFAC-DAA86A6525C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8D03-F726-4712-B787-411733F9E7F9}"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8640"/>
            <a:ext cx="8229600" cy="9363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800" spc="-1" strike="noStrike">
                <a:solidFill>
                  <a:srgbClr val="c00000"/>
                </a:solidFill>
                <a:latin typeface="Times New Roman"/>
                <a:ea typeface="Times New Roman"/>
              </a:rPr>
              <a:t>LIÇÃO 11: O PREÇO DA DESOBEDIÊNCIA</a:t>
            </a:r>
            <a:endParaRPr b="0" lang="en-US" sz="2800" spc="-1" strike="noStrike">
              <a:solidFill>
                <a:srgbClr val="000000"/>
              </a:solidFill>
              <a:latin typeface="Calibri"/>
            </a:endParaRPr>
          </a:p>
        </p:txBody>
      </p:sp>
      <p:sp>
        <p:nvSpPr>
          <p:cNvPr id="108" name=""/>
          <p:cNvSpPr txBox="1"/>
          <p:nvPr/>
        </p:nvSpPr>
        <p:spPr>
          <a:xfrm>
            <a:off x="468360" y="1557360"/>
            <a:ext cx="8229600" cy="48960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OBEDIÊNCIA E SUA RECOMPENSA</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200" spc="-1" strike="noStrike">
                <a:solidFill>
                  <a:srgbClr val="000000"/>
                </a:solidFill>
                <a:latin typeface="Calibri"/>
                <a:ea typeface="Arial"/>
              </a:rPr>
              <a:t>1 - Muitos são os estatutos, juízos e mandamentos que compunham a lei divina e nenhum israelita jamais cumpriria perfeitamente a lei, uma vez que não era esta a sua função e sim, antes, revelar o pecado e sua proliferação, demonstrando a indignidade e distanciamento de todos em relação à santidade e justiça de Deus. Para tudo isto havia reparação diante de Deus, e oportunidade para o transgressor se arrepender; o que caracterizaria a desobediência, porém, seria o pecado não confessado, continuado – e isso o Senhor não toleraria. Portanto, a obediência se caracteriza mais por uma vida que sincera e constantemente deseja e se aplica a obedecer à vontade de Deus com todas as suas forças, reconhecendo e confessando os seus desvios e pecados; do que a vida daqueles que se justificam a si mesmos.</a:t>
            </a:r>
            <a:r>
              <a:rPr b="0" lang="pt-BR" sz="2400" spc="-1" strike="noStrike">
                <a:solidFill>
                  <a:srgbClr val="000000"/>
                </a:solidFill>
                <a:latin typeface="Calibri"/>
                <a:ea typeface="Arial"/>
              </a:rPr>
              <a:t>	</a:t>
            </a:r>
            <a:r>
              <a:rPr b="0" lang="pt-BR" sz="1100" spc="-1" strike="noStrike">
                <a:solidFill>
                  <a:srgbClr val="000000"/>
                </a:solidFill>
                <a:latin typeface="Calibri"/>
                <a:ea typeface="Arial"/>
              </a:rPr>
              <a:t>(cf</a:t>
            </a:r>
            <a:r>
              <a:rPr b="0" lang="pt-BR" sz="1100" spc="-1" strike="noStrike">
                <a:solidFill>
                  <a:srgbClr val="0000cc"/>
                </a:solidFill>
                <a:latin typeface="Calibri"/>
                <a:ea typeface="Arial"/>
              </a:rPr>
              <a:t>. Na 1.3a; Lc 18.10-14</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68360" y="3357720"/>
            <a:ext cx="8229600" cy="2016000"/>
          </a:xfrm>
          <a:prstGeom prst="rect">
            <a:avLst/>
          </a:prstGeom>
          <a:noFill/>
          <a:ln w="9360">
            <a:solidFill>
              <a:srgbClr val="0000cc"/>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ea typeface="Arial"/>
              </a:rPr>
              <a:t>Na 1.  3a</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ea typeface="Arial"/>
              </a:rPr>
              <a:t>Lc 18.  1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8424720" cy="8636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500" spc="-1" strike="noStrike">
                <a:solidFill>
                  <a:srgbClr val="c00000"/>
                </a:solidFill>
                <a:latin typeface="Times New Roman"/>
                <a:ea typeface="Times New Roman"/>
              </a:rPr>
              <a:t>LIÇÃO 11: O PREÇO DA DESOBEDIÊNCIA</a:t>
            </a:r>
            <a:endParaRPr b="0" lang="en-US" sz="2500" spc="-1" strike="noStrike">
              <a:solidFill>
                <a:srgbClr val="000000"/>
              </a:solidFill>
              <a:latin typeface="Calibri"/>
            </a:endParaRPr>
          </a:p>
        </p:txBody>
      </p:sp>
      <p:sp>
        <p:nvSpPr>
          <p:cNvPr id="111" name=""/>
          <p:cNvSpPr txBox="1"/>
          <p:nvPr/>
        </p:nvSpPr>
        <p:spPr>
          <a:xfrm>
            <a:off x="485640" y="1197000"/>
            <a:ext cx="8229600" cy="5184720"/>
          </a:xfrm>
          <a:prstGeom prst="rect">
            <a:avLst/>
          </a:prstGeom>
          <a:noFill/>
          <a:ln w="0">
            <a:noFill/>
          </a:ln>
        </p:spPr>
        <p:txBody>
          <a:bodyPr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OBEDIÊNCIA E SUA RECOMPENSA</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2400" spc="-1" strike="noStrike">
                <a:solidFill>
                  <a:srgbClr val="000000"/>
                </a:solidFill>
                <a:latin typeface="Calibri"/>
                <a:ea typeface="Arial"/>
              </a:rPr>
              <a:t>2 - </a:t>
            </a:r>
            <a:r>
              <a:rPr b="0" lang="pt-BR" sz="2400" spc="-1" strike="noStrike">
                <a:solidFill>
                  <a:srgbClr val="000000"/>
                </a:solidFill>
                <a:latin typeface="Calibri"/>
              </a:rPr>
              <a:t>Por esta razão, os dois mandamentos destacados aqui são justamente aqueles cujo propósito era o de guardar o coração do israelita no amor e temor devidos exclusivamente a Deus. No primeiro mandamento, temos a proibição à idolatria, de substituir Deus por qualquer outro ser ou objeto, limitando o valor de todas as coisas desta criação; no outro mandamento, temos a ordenação ao culto e à devoção ao Criador, pelas quais o israelita aprenderia a valorizar a Deus e as coisas de Deus mais do que qualquer outra coisa. E notemos que foi precisamente quando tropeçaram nestes dois mandamentos, entregando-se à idolatria e abandonando o culto divino, que os israelitas se precipitaram em todos os demais pecados que levaram à sua destruição.</a:t>
            </a:r>
            <a:r>
              <a:rPr b="0" lang="pt-BR" sz="2500" spc="-1" strike="noStrike">
                <a:solidFill>
                  <a:srgbClr val="000000"/>
                </a:solidFill>
                <a:latin typeface="Calibri"/>
              </a:rPr>
              <a:t>	</a:t>
            </a:r>
            <a:r>
              <a:rPr b="0" lang="pt-BR" sz="25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2 Rs 17.35-39; Ez 22.8</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360" y="3357720"/>
            <a:ext cx="8229600" cy="2016000"/>
          </a:xfrm>
          <a:prstGeom prst="rect">
            <a:avLst/>
          </a:prstGeom>
          <a:noFill/>
          <a:ln w="9360">
            <a:solidFill>
              <a:srgbClr val="0000cc"/>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Calibri"/>
                <a:ea typeface="Arial"/>
              </a:rPr>
              <a:t>2 Rs 17.  35-39</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Calibri"/>
                <a:ea typeface="Arial"/>
              </a:rPr>
              <a:t>Ez 22.  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22360" y="189000"/>
            <a:ext cx="8229600" cy="706320"/>
          </a:xfrm>
          <a:prstGeom prst="rect">
            <a:avLst/>
          </a:prstGeom>
          <a:noFill/>
          <a:ln w="9360">
            <a:solidFill>
              <a:srgbClr val="00b050"/>
            </a:solidFill>
            <a:miter/>
          </a:ln>
        </p:spPr>
        <p:txBody>
          <a:bodyPr anchor="ctr">
            <a:noAutofit/>
          </a:bodyPr>
          <a:p>
            <a:pPr marL="34308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500" spc="-1" strike="noStrike">
                <a:solidFill>
                  <a:srgbClr val="c00000"/>
                </a:solidFill>
                <a:latin typeface="Times New Roman"/>
                <a:ea typeface="Times New Roman"/>
              </a:rPr>
              <a:t>LIÇÃO 11: O PREÇO DA DESOBEDIÊNCIA</a:t>
            </a:r>
            <a:endParaRPr b="0" lang="en-US" sz="2500" spc="-1" strike="noStrike">
              <a:solidFill>
                <a:srgbClr val="000000"/>
              </a:solidFill>
              <a:latin typeface="Calibri"/>
            </a:endParaRPr>
          </a:p>
        </p:txBody>
      </p:sp>
      <p:sp>
        <p:nvSpPr>
          <p:cNvPr id="114" name=""/>
          <p:cNvSpPr txBox="1"/>
          <p:nvPr/>
        </p:nvSpPr>
        <p:spPr>
          <a:xfrm>
            <a:off x="485640" y="1197000"/>
            <a:ext cx="8229600" cy="5184720"/>
          </a:xfrm>
          <a:prstGeom prst="rect">
            <a:avLst/>
          </a:prstGeom>
          <a:noFill/>
          <a:ln w="0">
            <a:noFill/>
          </a:ln>
        </p:spPr>
        <p:txBody>
          <a:bodyPr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OBEDIÊNCIA E SUA RECOMPENSA</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2400" spc="-1" strike="noStrike">
                <a:solidFill>
                  <a:srgbClr val="000000"/>
                </a:solidFill>
                <a:latin typeface="Calibri"/>
                <a:ea typeface="Arial"/>
              </a:rPr>
              <a:t>3 - Seguem-se então as bênçãos consequentes da obediência – bênçãos altamente atrativas para os israelitas que acabavam de sair de uma vida de servidão e livres entrariam na posse de sua própria terra. São bênçãos tanto de ordem material: alimento, proteção contra os inimigos e multiplicação da descendência, etc.; como também de ordem espiritual: confirmação do concerto com Deus e garantia da presença divina entre eles. Não se trata de uma troca, pois a obediência é devida a Deus como o resgatador do povo – tanto por gratidão como por direito de compra. Mas, mesmo assim, o Senhor propõe tais bênçãos em termos de incentivos à obediência ou frutos a serem colhidos dela, para que entendamos que este é o bom caminho que Ele quer que trilhemos.</a:t>
            </a:r>
            <a:r>
              <a:rPr b="0" lang="pt-BR" sz="2600" spc="-1" strike="noStrike">
                <a:solidFill>
                  <a:srgbClr val="000000"/>
                </a:solidFill>
                <a:latin typeface="Calibri"/>
                <a:ea typeface="Arial"/>
              </a:rPr>
              <a:t>	</a:t>
            </a:r>
            <a:r>
              <a:rPr b="0" lang="pt-BR" sz="2600" spc="-1" strike="noStrike">
                <a:solidFill>
                  <a:srgbClr val="000000"/>
                </a:solidFill>
                <a:latin typeface="Calibri"/>
                <a:ea typeface="Arial"/>
              </a:rPr>
              <a:t>	</a:t>
            </a:r>
            <a:r>
              <a:rPr b="0" lang="pt-BR" sz="1100" spc="-1" strike="noStrike">
                <a:solidFill>
                  <a:srgbClr val="000000"/>
                </a:solidFill>
                <a:latin typeface="Calibri"/>
                <a:ea typeface="Arial"/>
              </a:rPr>
              <a:t> (cf. </a:t>
            </a:r>
            <a:r>
              <a:rPr b="0" lang="pt-BR" sz="1100" spc="-1" strike="noStrike">
                <a:solidFill>
                  <a:srgbClr val="0000cc"/>
                </a:solidFill>
                <a:latin typeface="Calibri"/>
                <a:ea typeface="Arial"/>
              </a:rPr>
              <a:t>Dt 30.15-16</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428640"/>
            <a:ext cx="8229600" cy="2087640"/>
          </a:xfrm>
          <a:prstGeom prst="rect">
            <a:avLst/>
          </a:prstGeom>
          <a:noFill/>
          <a:ln w="9360">
            <a:solidFill>
              <a:srgbClr val="0000cc"/>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ea typeface="Arial"/>
              </a:rPr>
              <a:t>Dt 30.  15-1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17"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549360"/>
            <a:ext cx="8229600" cy="5759280"/>
          </a:xfrm>
          <a:prstGeom prst="rect">
            <a:avLst/>
          </a:prstGeom>
          <a:noFill/>
          <a:ln w="9360">
            <a:solidFill>
              <a:srgbClr val="0000cc"/>
            </a:solidFill>
            <a:miter/>
          </a:ln>
        </p:spPr>
        <p:txBody>
          <a:bodyPr anchor="t">
            <a:norm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9900cc"/>
                </a:solidFill>
                <a:latin typeface="Calisto MT"/>
                <a:ea typeface="Times New Roman"/>
              </a:rPr>
              <a:t>II – A DESOBEDIÊNCIA E O SEU PREÇO </a:t>
            </a:r>
            <a:endParaRPr b="0" lang="en-US" sz="2200" spc="-1" strike="noStrike">
              <a:solidFill>
                <a:srgbClr val="000000"/>
              </a:solidFill>
              <a:latin typeface="Calibri"/>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cc"/>
                </a:solidFill>
                <a:latin typeface="Times New Roman"/>
                <a:ea typeface="Calibri"/>
              </a:rPr>
              <a:t>26. 14  Mas, se me não ouvirdes, e não fizerdes todos estes mandamentos,  15  e se rejeitardes os meus estatutos, e a vossa alma se enfadar dos meus juízos, não cumprindo todos os meus mandamentos, para invalidar o meu concerto,  16  então, eu também vos farei isto: porei sobre vós terror, a tísica e a febre ardente, que consumam os olhos e atormentem a alma; e semeareis debalde a vossa semente, e os vossos inimigos a comerão.  17  E porei a minha face contra vós, e sereis feridos diante de vossos inimigos; e os que vos aborrecerem de vós se assenhorearão, e fugireis, sem ninguém vos perseguir.</a:t>
            </a:r>
            <a:endParaRPr b="0" lang="en-US" sz="2600" spc="-1" strike="noStrike">
              <a:solidFill>
                <a:srgbClr val="000000"/>
              </a:solidFill>
              <a:latin typeface="Calibri"/>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500" spc="-1" strike="noStrike">
                <a:solidFill>
                  <a:srgbClr val="c00000"/>
                </a:solidFill>
                <a:latin typeface="Times New Roman"/>
                <a:ea typeface="Times New Roman"/>
              </a:rPr>
              <a:t>LIÇÃO 11: O PREÇO DA DESOBEDIÊNCIA</a:t>
            </a:r>
            <a:endParaRPr b="0" lang="en-US" sz="2500" spc="-1" strike="noStrike">
              <a:solidFill>
                <a:srgbClr val="000000"/>
              </a:solidFill>
              <a:latin typeface="Calibri"/>
            </a:endParaRPr>
          </a:p>
        </p:txBody>
      </p:sp>
      <p:sp>
        <p:nvSpPr>
          <p:cNvPr id="120" name=""/>
          <p:cNvSpPr txBox="1"/>
          <p:nvPr/>
        </p:nvSpPr>
        <p:spPr>
          <a:xfrm>
            <a:off x="468360" y="1699920"/>
            <a:ext cx="8229600" cy="4753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 – A DESOBEDIÊNCIA E O SEU PREÇO </a:t>
            </a:r>
            <a:endParaRPr b="0" lang="en-US" sz="22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ea typeface="Arial"/>
              </a:rPr>
              <a:t>	</a:t>
            </a:r>
            <a:r>
              <a:rPr b="0" lang="pt-BR" sz="2500" spc="-1" strike="noStrike">
                <a:solidFill>
                  <a:srgbClr val="000000"/>
                </a:solidFill>
                <a:latin typeface="Calibri"/>
                <a:ea typeface="Arial"/>
              </a:rPr>
              <a:t>1 - Notemos que a obediência é uma atitude simples para com Deus, de obedecer à Sua voz e sempre reconhecendo os próprios erros e voltando-se para o caminho reto. Daí a brevidade com que o assunto é tratado tanto aqui como em outra passagem conhecida (</a:t>
            </a:r>
            <a:r>
              <a:rPr b="0" lang="pt-BR" sz="2500" spc="-1" strike="noStrike">
                <a:solidFill>
                  <a:srgbClr val="0000cc"/>
                </a:solidFill>
                <a:latin typeface="Calibri"/>
                <a:ea typeface="Arial"/>
              </a:rPr>
              <a:t>Dt 28</a:t>
            </a:r>
            <a:r>
              <a:rPr b="0" lang="pt-BR" sz="2500" spc="-1" strike="noStrike">
                <a:solidFill>
                  <a:srgbClr val="000000"/>
                </a:solidFill>
                <a:latin typeface="Calibri"/>
                <a:ea typeface="Arial"/>
              </a:rPr>
              <a:t>). Por outro lado, a desobediência é um caminho progressivamente complexo, pois emaranha o coração numa pecaminosidade contínua que vicia e deixa o impenitente à mercê de desejos cada vez mais insaciáveis, gerando consequências cada vez mais abrangentes e destruidoras, até a eventual morte. O caminho da desobediência é triste e árduo, mas Deus sabe tratá-lo naqueles que ainda encontram misericórdia diante da Sua face; meios dolorosos, sem dúvida, mas eficazes para restaurar o pecador à vida plena de bênçãos</a:t>
            </a:r>
            <a:r>
              <a:rPr b="0" lang="pt-BR" sz="2400" spc="-1" strike="noStrike">
                <a:solidFill>
                  <a:srgbClr val="000000"/>
                </a:solidFill>
                <a:latin typeface="Calibri"/>
                <a:ea typeface="Arial"/>
              </a:rPr>
              <a:t>.</a:t>
            </a:r>
            <a:r>
              <a:rPr b="0" lang="pt-BR" sz="2400" spc="-1" strike="noStrike">
                <a:solidFill>
                  <a:srgbClr val="000000"/>
                </a:solidFill>
                <a:latin typeface="Calibri"/>
                <a:ea typeface="Arial"/>
              </a:rPr>
              <a:t>	</a:t>
            </a:r>
            <a:r>
              <a:rPr b="0" lang="pt-BR" sz="1100" spc="-1" strike="noStrike">
                <a:solidFill>
                  <a:srgbClr val="000000"/>
                </a:solidFill>
                <a:latin typeface="Calibri"/>
                <a:ea typeface="Arial"/>
              </a:rPr>
              <a:t>(cf. </a:t>
            </a:r>
            <a:r>
              <a:rPr b="0" lang="pt-BR" sz="1100" spc="-1" strike="noStrike">
                <a:solidFill>
                  <a:srgbClr val="0000cc"/>
                </a:solidFill>
                <a:latin typeface="Calibri"/>
                <a:ea typeface="Arial"/>
              </a:rPr>
              <a:t>Tg 1.14-15</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5280" y="3284640"/>
            <a:ext cx="8229600" cy="1512720"/>
          </a:xfrm>
          <a:prstGeom prst="rect">
            <a:avLst/>
          </a:prstGeom>
          <a:noFill/>
          <a:ln w="9360">
            <a:solidFill>
              <a:srgbClr val="0000cc"/>
            </a:solidFill>
            <a:miter/>
          </a:ln>
        </p:spPr>
        <p:txBody>
          <a:bodyPr anchor="t">
            <a:normAutofit/>
          </a:bodyPr>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cc"/>
                </a:solidFill>
                <a:latin typeface="Times New Roman"/>
                <a:ea typeface="Calibri"/>
              </a:rPr>
              <a:t>Tg 1.  14-15</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c00000"/>
                </a:solidFill>
                <a:latin typeface="Times New Roman"/>
                <a:ea typeface="Times New Roman"/>
              </a:rPr>
              <a:t>LIÇÃO 11: O PREÇO DA DESOBEDIÊNCIA</a:t>
            </a:r>
            <a:endParaRPr b="0" lang="en-US" sz="30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5280" y="549360"/>
            <a:ext cx="8229600" cy="5759280"/>
          </a:xfrm>
          <a:prstGeom prst="rect">
            <a:avLst/>
          </a:prstGeom>
          <a:noFill/>
          <a:ln w="9360">
            <a:solidFill>
              <a:srgbClr val="0000cc"/>
            </a:solidFill>
            <a:miter/>
          </a:ln>
        </p:spPr>
        <p:txBody>
          <a:bodyPr anchor="t">
            <a:normAutofit/>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9900cc"/>
                </a:solidFill>
                <a:latin typeface="Calisto MT"/>
                <a:ea typeface="Times New Roman"/>
              </a:rPr>
              <a:t>II – A DESOBEDIÊNCIA E O SEU PREÇO </a:t>
            </a:r>
            <a:endParaRPr b="0" lang="en-US" sz="22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030a0"/>
                </a:solidFill>
                <a:latin typeface="Times New Roman"/>
                <a:ea typeface="Calibri"/>
              </a:rPr>
              <a:t>26. 18  E, se ainda com estas coisas não me ouvirdes, então, eu prosseguirei em castigar-vos sete vezes mais por causa dos vossos pecados.  19  Porque quebrantarei a soberba da vossa força; e farei que os vossos céus sejam como ferro e a vossa terra, como cobre.  20  E debalde se gastará a vossa força; a vossa terra não dará a sua novidade, e as árvores da terra não darão o seu fruto.</a:t>
            </a:r>
            <a:endParaRPr b="0" lang="en-US" sz="24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ea typeface="Calibri"/>
              </a:rPr>
              <a:t>21  E, se andardes contrariamente para comigo e não me quiserdes ouvir, trazer-vos-ei praga sete vezes mais, conforme os vossos pecados.  22  Porque enviarei entre vós as feras do campo, as quais vos desfilharão, e desfarão o vosso gado, e vos apoucarão; e os vossos caminhos serão desert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5920"/>
            <a:ext cx="8229600" cy="10094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800" spc="-1" strike="noStrike">
                <a:solidFill>
                  <a:srgbClr val="c00000"/>
                </a:solidFill>
                <a:latin typeface="Times New Roman"/>
                <a:ea typeface="Times New Roman"/>
              </a:rPr>
              <a:t>LIÇÃO 11: O PREÇO DA DESOBEDIÊNCIA</a:t>
            </a:r>
            <a:endParaRPr b="0" lang="en-US" sz="2800" spc="-1" strike="noStrike">
              <a:solidFill>
                <a:srgbClr val="000000"/>
              </a:solidFill>
              <a:latin typeface="Calibri"/>
            </a:endParaRPr>
          </a:p>
        </p:txBody>
      </p:sp>
      <p:sp>
        <p:nvSpPr>
          <p:cNvPr id="124" name=""/>
          <p:cNvSpPr txBox="1"/>
          <p:nvPr/>
        </p:nvSpPr>
        <p:spPr>
          <a:xfrm>
            <a:off x="468360" y="1773360"/>
            <a:ext cx="8229600" cy="4680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0080"/>
                </a:solidFill>
                <a:latin typeface="Calisto MT"/>
                <a:ea typeface="Times New Roman"/>
              </a:rPr>
              <a:t>II – A DESOBEDIÊNCIA E O SEU PREÇO </a:t>
            </a:r>
            <a:endParaRPr b="0" lang="en-US" sz="24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a:rPr>
              <a:t>	</a:t>
            </a:r>
            <a:r>
              <a:rPr b="0" lang="pt-BR" sz="2800" spc="-1" strike="noStrike">
                <a:solidFill>
                  <a:srgbClr val="000000"/>
                </a:solidFill>
                <a:latin typeface="Calibri"/>
                <a:ea typeface="Arial"/>
              </a:rPr>
              <a:t>2 - </a:t>
            </a:r>
            <a:r>
              <a:rPr b="0" lang="pt-BR" sz="2800" spc="-1" strike="noStrike">
                <a:solidFill>
                  <a:srgbClr val="000000"/>
                </a:solidFill>
                <a:latin typeface="Calibri"/>
              </a:rPr>
              <a:t>Não precisamos nos deter em explicar cada adversidade que o Senhor traria sobre o povo quando este pecasse e não se arrependesse; mas precisamos notar que a gravidade desses males torna-se maior na medida em que, repreendidos, os israelitas persistissem no erro (cf. vv. </a:t>
            </a:r>
            <a:r>
              <a:rPr b="0" lang="pt-BR" sz="2800" spc="-1" strike="noStrike">
                <a:solidFill>
                  <a:srgbClr val="0000cc"/>
                </a:solidFill>
                <a:latin typeface="Calibri"/>
              </a:rPr>
              <a:t>14, 18, 21, 23, 27</a:t>
            </a:r>
            <a:r>
              <a:rPr b="0" lang="pt-BR" sz="2800" spc="-1" strike="noStrike">
                <a:solidFill>
                  <a:srgbClr val="000000"/>
                </a:solidFill>
                <a:latin typeface="Calibri"/>
              </a:rPr>
              <a:t>). E isto é sinal da misericórdia de Deus, pois Ele repreende e castiga aqueles que ama, não como um juiz ao malfeitor, dando-lhe a justa sentença dos seus crimes, mas como um pai ao filho, que contém a medida do castigo na esperança de que a criança aprenderá a lição e não tornará a fazer o mal.</a:t>
            </a:r>
            <a:r>
              <a:rPr b="0" lang="pt-BR" sz="2800" spc="-1" strike="noStrike">
                <a:solidFill>
                  <a:srgbClr val="000000"/>
                </a:solidFill>
                <a:latin typeface="Calibri"/>
              </a:rPr>
              <a:t>	</a:t>
            </a:r>
            <a:r>
              <a:rPr b="0" lang="pt-BR" sz="28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Pv 3.12; cf. Sl 130.3-4</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3068640"/>
            <a:ext cx="8229600" cy="2232000"/>
          </a:xfrm>
          <a:prstGeom prst="rect">
            <a:avLst/>
          </a:prstGeom>
          <a:noFill/>
          <a:ln w="9360">
            <a:solidFill>
              <a:srgbClr val="0000cc"/>
            </a:solidFill>
            <a:miter/>
          </a:ln>
        </p:spPr>
        <p:txBody>
          <a:bodyPr anchor="t">
            <a:normAutofit/>
          </a:bodyPr>
          <a:p>
            <a:pPr algn="ct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Times New Roman"/>
                <a:ea typeface="Calibri"/>
              </a:rPr>
              <a:t>Pv 3.  12</a:t>
            </a:r>
            <a:endParaRPr b="0" lang="en-US" sz="3200" spc="-1" strike="noStrike">
              <a:solidFill>
                <a:srgbClr val="000000"/>
              </a:solidFill>
              <a:latin typeface="Calibri"/>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Times New Roman"/>
                <a:ea typeface="Calibri"/>
              </a:rPr>
              <a:t>Sl 130.  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95280" y="549360"/>
            <a:ext cx="8229600" cy="5904000"/>
          </a:xfrm>
          <a:prstGeom prst="rect">
            <a:avLst/>
          </a:prstGeom>
          <a:noFill/>
          <a:ln w="9360">
            <a:solidFill>
              <a:srgbClr val="0000cc"/>
            </a:solidFill>
            <a:miter/>
          </a:ln>
        </p:spPr>
        <p:txBody>
          <a:bodyPr anchor="t">
            <a:normAutofit fontScale="98000"/>
          </a:bodyPr>
          <a:p>
            <a:pPr>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9900cc"/>
                </a:solidFill>
                <a:latin typeface="Calisto MT"/>
                <a:ea typeface="Times New Roman"/>
              </a:rPr>
              <a:t>II – A DESOBEDIÊNCIA E O SEU PREÇO </a:t>
            </a:r>
            <a:endParaRPr b="0" lang="en-US" sz="22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030a0"/>
                </a:solidFill>
                <a:latin typeface="Times New Roman"/>
                <a:ea typeface="Calibri"/>
              </a:rPr>
              <a:t>26. </a:t>
            </a:r>
            <a:r>
              <a:rPr b="0" lang="pt-BR" sz="2400" spc="-1" strike="noStrike">
                <a:solidFill>
                  <a:srgbClr val="ff0000"/>
                </a:solidFill>
                <a:latin typeface="Times New Roman"/>
                <a:ea typeface="Calibri"/>
              </a:rPr>
              <a:t>27  E, se com isto me não ouvirdes, mas ainda andardes contrariamente comigo,  28  também eu convosco andarei contrariamente em furor; e vos castigarei sete vezes mais por causa dos vossos pecados.  29  Porque comereis a carne de vossos filhos e a carne de vossas filhas comereis.  30  E destruirei os vossos altos, e desfarei as vossas imagens do sol, e lançarei o vosso cadáver sobre o cadáver dos vossos deuses; a minha alma se enfadará de vós.  31  E porei as vossas cidades por deserto, e assolarei os vossos santuários, e não cheirarei o vosso cheiro suave.  32  E assolarei a terra, e se espantarão disso os vossos inimigos que nela morarem.  33  E vos espalharei entre as nações e desembainharei a espada atrás de vós; e a vossa terra será assolada, e as vossas cidades serão deser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5920"/>
            <a:ext cx="8229600" cy="9367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3000" spc="-1" strike="noStrike">
                <a:solidFill>
                  <a:srgbClr val="c00000"/>
                </a:solidFill>
                <a:latin typeface="Times New Roman"/>
                <a:ea typeface="Times New Roman"/>
              </a:rPr>
              <a:t>LIÇÃO 11: O PREÇO DA DESOBEDIÊNCIA</a:t>
            </a:r>
            <a:endParaRPr b="0" lang="en-US" sz="3000" spc="-1" strike="noStrike">
              <a:solidFill>
                <a:srgbClr val="000000"/>
              </a:solidFill>
              <a:latin typeface="Calibri"/>
            </a:endParaRPr>
          </a:p>
        </p:txBody>
      </p:sp>
      <p:sp>
        <p:nvSpPr>
          <p:cNvPr id="128" name=""/>
          <p:cNvSpPr txBox="1"/>
          <p:nvPr/>
        </p:nvSpPr>
        <p:spPr>
          <a:xfrm>
            <a:off x="468360" y="1844640"/>
            <a:ext cx="8229600" cy="4608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 – A DESOBEDIÊNCIA E O SEU PREÇO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 </a:t>
            </a:r>
            <a:endParaRPr b="0" lang="en-US" sz="22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a:rPr>
              <a:t>	</a:t>
            </a:r>
            <a:r>
              <a:rPr b="0" lang="pt-BR" sz="2800" spc="-1" strike="noStrike">
                <a:solidFill>
                  <a:srgbClr val="000000"/>
                </a:solidFill>
                <a:latin typeface="Calibri"/>
                <a:ea typeface="Arial"/>
              </a:rPr>
              <a:t>3 - </a:t>
            </a:r>
            <a:r>
              <a:rPr b="0" lang="pt-BR" sz="2800" spc="-1" strike="noStrike">
                <a:solidFill>
                  <a:srgbClr val="000000"/>
                </a:solidFill>
                <a:latin typeface="Calibri"/>
              </a:rPr>
              <a:t>Consideremos ainda que, ao escolher trilhar esse caminho, Israel seguiu por gerações a fio sofrendo as consequências da desobediência, de forma lenta mas progressiva, em poucas ocasiões recobrando a consciência dos seus pecados para se voltar para Deus em busca de perdão. E que, finalmente, depois de muito corrigi-los e conter a Sua mão, e procurando, através dos profetas, abrir os olhos do povo para o seu caminho tortuoso, finalmente chegou o tempo de fazê-los experimentar as últimas consequências da sua desobediência.</a:t>
            </a:r>
            <a:r>
              <a:rPr b="0" lang="pt-BR" sz="2800" spc="-1" strike="noStrike">
                <a:solidFill>
                  <a:srgbClr val="000000"/>
                </a:solidFill>
                <a:latin typeface="Calibri"/>
              </a:rPr>
              <a:t>	</a:t>
            </a:r>
            <a:r>
              <a:rPr b="0" lang="pt-BR" sz="1100" spc="-1" strike="noStrike">
                <a:solidFill>
                  <a:srgbClr val="000000"/>
                </a:solidFill>
                <a:latin typeface="Calibri"/>
              </a:rPr>
              <a:t> (cf. </a:t>
            </a:r>
            <a:r>
              <a:rPr b="0" lang="pt-BR" sz="1100" spc="-1" strike="noStrike">
                <a:solidFill>
                  <a:srgbClr val="0000cc"/>
                </a:solidFill>
                <a:latin typeface="Calibri"/>
              </a:rPr>
              <a:t>2 Rs 17.13-14 e 23</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5280" y="2636640"/>
            <a:ext cx="8229600" cy="1726920"/>
          </a:xfrm>
          <a:prstGeom prst="rect">
            <a:avLst/>
          </a:prstGeom>
          <a:noFill/>
          <a:ln w="9360">
            <a:solidFill>
              <a:srgbClr val="0000cc"/>
            </a:solidFill>
            <a:miter/>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2 Rs 17.  13-14 e 2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31"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5280" y="404640"/>
            <a:ext cx="8229600" cy="6120000"/>
          </a:xfrm>
          <a:prstGeom prst="rect">
            <a:avLst/>
          </a:prstGeom>
          <a:noFill/>
          <a:ln w="9360">
            <a:solidFill>
              <a:srgbClr val="0000cc"/>
            </a:solidFill>
            <a:miter/>
          </a:ln>
        </p:spPr>
        <p:txBody>
          <a:bodyPr anchor="t">
            <a:normAutofit fontScale="99000"/>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ff0000"/>
                </a:solidFill>
                <a:latin typeface="Calisto MT"/>
                <a:ea typeface="Times New Roman"/>
              </a:rPr>
              <a:t>III – DA DESOBEDIÊNCIA À OBEDIÊNCIA </a:t>
            </a:r>
            <a:endParaRPr b="0" lang="en-US" sz="1900" spc="-1" strike="noStrike">
              <a:solidFill>
                <a:srgbClr val="000000"/>
              </a:solidFill>
              <a:latin typeface="Calibri"/>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99"/>
                </a:solidFill>
                <a:latin typeface="Times New Roman"/>
                <a:ea typeface="Calibri"/>
              </a:rPr>
              <a:t>26. 40  Então, confessarão a sua iniqüidade e a iniqüidade de seus pais, com as suas transgressões, com que transgrediram contra mim; como também confessarão que, por terem andado contrariamente para comigo,  41  eu também andei com eles contrariamente e os fiz entrar na terra dos seus inimigos; se, então, o seu coração incircunciso se humilhar, e tomarem por bem o castigo da sua iniqüidade,  42  também eu me lembrarei do meu concerto com Jacó, e também do meu concerto com Isaque, e também do meu concerto com Abraão me lembrarei, e da terra me lembrarei.  43  E a terra será desamparada por eles e folgará nos seus sábados, sendo assolada por causa deles; e tomarão por bem o castigo da sua iniqüidade, em razão mesmo de que rejeitaram os meus juízos e a sua alma se enfastiou dos meus estatutos.  44  E, demais disto também, estando eles na terra dos seus inimigos, não os rejeitarei, nem me enfadarei deles, para consumi-los e invalidar o meu concerto com eles, porque eu sou o SENHOR, seu Deus.  45  Antes, por amor deles, me lembrarei do concerto com os seus antepassados, que tirei da terra do Egito perante os olhos das nações, para lhes ser por Deus. Eu sou o SENHOR.  46  Estes são os estatutos, e os juízos, e as leis que deu o SENHOR entre si e os filhos de Israel, no monte Sinai, pela mão de Moisé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500" spc="-1" strike="noStrike">
                <a:solidFill>
                  <a:srgbClr val="c00000"/>
                </a:solidFill>
                <a:latin typeface="Times New Roman"/>
                <a:ea typeface="Times New Roman"/>
              </a:rPr>
              <a:t>LIÇÃO 11: O PREÇO DA DESOBEDIÊNCIA</a:t>
            </a:r>
            <a:endParaRPr b="0" lang="en-US" sz="2500" spc="-1" strike="noStrike">
              <a:solidFill>
                <a:srgbClr val="000000"/>
              </a:solidFill>
              <a:latin typeface="Calibri"/>
            </a:endParaRPr>
          </a:p>
        </p:txBody>
      </p:sp>
      <p:sp>
        <p:nvSpPr>
          <p:cNvPr id="134" name=""/>
          <p:cNvSpPr txBox="1"/>
          <p:nvPr/>
        </p:nvSpPr>
        <p:spPr>
          <a:xfrm>
            <a:off x="468360" y="1412640"/>
            <a:ext cx="8229600" cy="51116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I – DA DESOBEDIÊNCIA À OBEDIÊNCIA </a:t>
            </a:r>
            <a:endParaRPr b="0" lang="en-US" sz="22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Calibri"/>
                <a:ea typeface="Arial"/>
              </a:rPr>
              <a:t>	</a:t>
            </a:r>
            <a:endParaRPr b="0" lang="en-US" sz="9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600" spc="-1" strike="noStrike">
                <a:solidFill>
                  <a:srgbClr val="000000"/>
                </a:solidFill>
                <a:latin typeface="Calibri"/>
                <a:ea typeface="Arial"/>
              </a:rPr>
              <a:t>1 – Israel é um exemplo da eleição divina a ser profundamente estudado. No nosso contexto, queremos sublinhar o aspecto de que Deus havia prometido e depois firmado um pacto para santificar e salvar esse povo. E, ainda que a nação de um modo geral não cumprisse a Sua parte com a obediência, trazendo sobre si mesmos as consequências dos seus pecados, o Senhor havia estabelecido um meio de preservar um remanescente, um número de israelitas que, ao experimentar a amargura do castigo, se arrependeriam e alcançariam misericórdia para serem restaurados diante de Deus.</a:t>
            </a:r>
            <a:r>
              <a:rPr b="0" lang="pt-BR" sz="2500" spc="-1" strike="noStrike">
                <a:solidFill>
                  <a:srgbClr val="000000"/>
                </a:solidFill>
                <a:latin typeface="Calibri"/>
                <a:ea typeface="Arial"/>
              </a:rPr>
              <a:t>	</a:t>
            </a:r>
            <a:r>
              <a:rPr b="0" lang="pt-BR" sz="2500" spc="-1" strike="noStrike">
                <a:solidFill>
                  <a:srgbClr val="000000"/>
                </a:solidFill>
                <a:latin typeface="Calibri"/>
                <a:ea typeface="Arial"/>
              </a:rPr>
              <a:t>	</a:t>
            </a:r>
            <a:r>
              <a:rPr b="0" lang="pt-BR" sz="1100" spc="-1" strike="noStrike">
                <a:solidFill>
                  <a:srgbClr val="000000"/>
                </a:solidFill>
                <a:latin typeface="Calibri"/>
                <a:ea typeface="Arial"/>
              </a:rPr>
              <a:t> (</a:t>
            </a:r>
            <a:r>
              <a:rPr b="0" lang="pt-BR" sz="1100" spc="-1" strike="noStrike">
                <a:solidFill>
                  <a:srgbClr val="0000cc"/>
                </a:solidFill>
                <a:latin typeface="Calibri"/>
                <a:ea typeface="Arial"/>
              </a:rPr>
              <a:t>Rm 9.27</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3644640"/>
            <a:ext cx="8229600" cy="1584360"/>
          </a:xfrm>
          <a:prstGeom prst="rect">
            <a:avLst/>
          </a:prstGeom>
          <a:noFill/>
          <a:ln w="9360">
            <a:solidFill>
              <a:srgbClr val="0000cc"/>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ea typeface="Arial"/>
              </a:rPr>
              <a:t>Rm 9.  27</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2800"/>
            </a:br>
            <a:r>
              <a:rPr b="1" lang="pt-BR" sz="3000" spc="-1" strike="noStrike">
                <a:solidFill>
                  <a:srgbClr val="c00000"/>
                </a:solidFill>
                <a:latin typeface="Times New Roman"/>
                <a:ea typeface="Times New Roman"/>
              </a:rPr>
              <a:t>LIÇÃO 11: O PREÇO DA DESOBEDIÊNCIA</a:t>
            </a:r>
            <a:endParaRPr b="0" lang="en-US" sz="30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0" i="1" lang="pt-BR" sz="4400" spc="-1" strike="noStrike">
                <a:solidFill>
                  <a:srgbClr val="0000cc"/>
                </a:solidFill>
                <a:latin typeface="Calibri"/>
              </a:rPr>
              <a:t>Levítico 26.3-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500" spc="-1" strike="noStrike">
                <a:solidFill>
                  <a:srgbClr val="c00000"/>
                </a:solidFill>
                <a:latin typeface="Times New Roman"/>
                <a:ea typeface="Times New Roman"/>
              </a:rPr>
              <a:t>LIÇÃO 11: O PREÇO DA DESOBEDIÊNCIA</a:t>
            </a:r>
            <a:endParaRPr b="0" lang="en-US" sz="2500" spc="-1" strike="noStrike">
              <a:solidFill>
                <a:srgbClr val="000000"/>
              </a:solidFill>
              <a:latin typeface="Calibri"/>
            </a:endParaRPr>
          </a:p>
        </p:txBody>
      </p:sp>
      <p:sp>
        <p:nvSpPr>
          <p:cNvPr id="137" name=""/>
          <p:cNvSpPr txBox="1"/>
          <p:nvPr/>
        </p:nvSpPr>
        <p:spPr>
          <a:xfrm>
            <a:off x="468360" y="2060280"/>
            <a:ext cx="8229600" cy="43210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I – DA DESOBEDIÊNCIA À OBEDIÊNCIA </a:t>
            </a:r>
            <a:r>
              <a:rPr b="0" lang="pt-BR" sz="2200" spc="-1" strike="noStrike">
                <a:solidFill>
                  <a:srgbClr val="000000"/>
                </a:solidFill>
                <a:latin typeface="Calibri"/>
                <a:ea typeface="Arial"/>
              </a:rPr>
              <a:t>	</a:t>
            </a:r>
            <a:endParaRPr b="0" lang="en-US" sz="22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600" spc="-1" strike="noStrike">
                <a:solidFill>
                  <a:srgbClr val="000000"/>
                </a:solidFill>
                <a:latin typeface="Calibri"/>
                <a:ea typeface="Arial"/>
              </a:rPr>
              <a:t>2 – Embora seja verdadeiro que Deus ainda possa se valer de circunstâncias materiais ou físicas como meios de repreender Seus filhos por pecados não confessados, é certo que na dispensação do evangelho a palavra de Deus exerce poder de repreensão suficiente para convencer o homem do pecado e convertê-lo à obediência de Cristo, tendo em vista a expectativa, não de um castigo físico ou corporal, mas eterno e que encontra-se às portas de cada um.</a:t>
            </a:r>
            <a:r>
              <a:rPr b="0" lang="pt-BR" sz="2100" spc="-1" strike="noStrike">
                <a:solidFill>
                  <a:srgbClr val="000000"/>
                </a:solidFill>
                <a:latin typeface="Calibri"/>
                <a:ea typeface="Arial"/>
              </a:rPr>
              <a:t>	</a:t>
            </a:r>
            <a:r>
              <a:rPr b="0" lang="pt-BR" sz="2100" spc="-1" strike="noStrike">
                <a:solidFill>
                  <a:srgbClr val="000000"/>
                </a:solidFill>
                <a:latin typeface="Calibri"/>
                <a:ea typeface="Arial"/>
              </a:rPr>
              <a:t>	</a:t>
            </a:r>
            <a:r>
              <a:rPr b="0" lang="pt-BR" sz="1100" spc="-1" strike="noStrike">
                <a:solidFill>
                  <a:srgbClr val="000000"/>
                </a:solidFill>
                <a:latin typeface="Calibri"/>
                <a:ea typeface="Arial"/>
              </a:rPr>
              <a:t> (cf. </a:t>
            </a:r>
            <a:r>
              <a:rPr b="0" lang="pt-BR" sz="1100" spc="-1" strike="noStrike">
                <a:solidFill>
                  <a:srgbClr val="0000cc"/>
                </a:solidFill>
                <a:latin typeface="Calibri"/>
                <a:ea typeface="Arial"/>
              </a:rPr>
              <a:t>Jo 5.14; Tg 5.14-15; Ap 2.2; Mt 3.2, 7-10; At 2.38-40</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360" y="1483920"/>
            <a:ext cx="8229600" cy="4824360"/>
          </a:xfrm>
          <a:prstGeom prst="rect">
            <a:avLst/>
          </a:prstGeom>
          <a:noFill/>
          <a:ln w="9360">
            <a:solidFill>
              <a:srgbClr val="0000cc"/>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cc"/>
                </a:solidFill>
                <a:latin typeface="Calibri"/>
                <a:ea typeface="Arial"/>
              </a:rPr>
              <a:t>Jo 5.  14</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ea typeface="Arial"/>
              </a:rPr>
              <a:t>Tg 5.  14-15</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ea typeface="Arial"/>
              </a:rPr>
              <a:t>Ap 2.  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ea typeface="Arial"/>
              </a:rPr>
              <a:t>Mt 3.  2, 7-10</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ea typeface="Arial"/>
              </a:rPr>
              <a:t>At 2.  38-40</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40"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ff0000"/>
                </a:solidFill>
                <a:latin typeface="Calisto MT"/>
                <a:ea typeface="Times New Roman"/>
              </a:rPr>
              <a:t>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42" name=""/>
          <p:cNvSpPr txBox="1"/>
          <p:nvPr/>
        </p:nvSpPr>
        <p:spPr>
          <a:xfrm>
            <a:off x="449280" y="1988640"/>
            <a:ext cx="8229600" cy="42483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CONCLUSÃO</a:t>
            </a:r>
            <a:endParaRPr b="0" lang="en-US" sz="26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800080"/>
                </a:solidFill>
                <a:latin typeface="Calisto MT"/>
                <a:ea typeface="Times New Roman"/>
              </a:rPr>
              <a:t> </a:t>
            </a:r>
            <a:r>
              <a:rPr b="1" lang="pt-BR" sz="1000" spc="-1" strike="noStrike">
                <a:solidFill>
                  <a:srgbClr val="006600"/>
                </a:solidFill>
                <a:latin typeface="Calibri"/>
              </a:rPr>
              <a:t>	</a:t>
            </a:r>
            <a:r>
              <a:rPr b="1" lang="pt-BR" sz="1000" spc="-1" strike="noStrike">
                <a:solidFill>
                  <a:srgbClr val="006600"/>
                </a:solidFill>
                <a:latin typeface="Calibri"/>
              </a:rPr>
              <a:t>	</a:t>
            </a:r>
            <a:r>
              <a:rPr b="0" lang="pt-BR" sz="1000" spc="-1" strike="noStrike">
                <a:solidFill>
                  <a:srgbClr val="000000"/>
                </a:solidFill>
                <a:latin typeface="Calibri"/>
                <a:ea typeface="Arial"/>
              </a:rPr>
              <a:t> </a:t>
            </a:r>
            <a:endParaRPr b="0" lang="en-US" sz="10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ea typeface="Arial"/>
              </a:rPr>
              <a:t>	</a:t>
            </a:r>
            <a:r>
              <a:rPr b="0" lang="pt-BR" sz="2800" spc="-1" strike="noStrike">
                <a:solidFill>
                  <a:srgbClr val="000000"/>
                </a:solidFill>
                <a:latin typeface="Calibri"/>
              </a:rPr>
              <a:t>Ser levado da desobediência para a obediência sem dúvida é um caminho de Deus para salvar os Seus, mas certamente não deveríamos preferir este ao caminho de uma obediência sincera e constante, desviando-nos continuamente do mal e, com humildade, confessando nossas faltas ao nosso Deus, que é misericordioso e pronto para perdoar. Não esperemos a repreensão de Deus, mas o quanto antes ouçamos a Sua voz nos orientando a fazer a escolha da obediência, para que vivam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44"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3000" spc="-1" strike="noStrike">
                <a:solidFill>
                  <a:srgbClr val="c00000"/>
                </a:solidFill>
                <a:latin typeface="Times New Roman"/>
                <a:ea typeface="Times New Roman"/>
              </a:rPr>
              <a:t>LIÇÃO 11: O PREÇO DA DESOBEDIÊNCIA</a:t>
            </a:r>
            <a:endParaRPr b="0" lang="en-US" sz="3000" spc="-1" strike="noStrike">
              <a:solidFill>
                <a:srgbClr val="000000"/>
              </a:solidFill>
              <a:latin typeface="Calibri"/>
            </a:endParaRPr>
          </a:p>
        </p:txBody>
      </p:sp>
      <p:sp>
        <p:nvSpPr>
          <p:cNvPr id="146" name=""/>
          <p:cNvSpPr txBox="1"/>
          <p:nvPr/>
        </p:nvSpPr>
        <p:spPr>
          <a:xfrm>
            <a:off x="457200" y="1915920"/>
            <a:ext cx="8229600" cy="4033800"/>
          </a:xfrm>
          <a:prstGeom prst="rect">
            <a:avLst/>
          </a:prstGeom>
          <a:noFill/>
          <a:ln w="9360">
            <a:solidFill>
              <a:srgbClr val="c00000"/>
            </a:solidFill>
            <a:miter/>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c00000"/>
                </a:solidFill>
                <a:latin typeface="Arial"/>
                <a:ea typeface="Arial"/>
              </a:rPr>
              <a:t>Texto Áureo:</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endParaRPr b="0" lang="en-US" sz="1200" spc="-1" strike="noStrike">
              <a:solidFill>
                <a:srgbClr val="000000"/>
              </a:solidFill>
              <a:latin typeface="Calibri"/>
            </a:endParaRPr>
          </a:p>
          <a:p>
            <a:pPr>
              <a:lnSpc>
                <a:spcPct val="107000"/>
              </a:lnSpc>
              <a:spcBef>
                <a:spcPts val="7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ea typeface="Arial"/>
              </a:rPr>
              <a:t> </a:t>
            </a:r>
            <a:r>
              <a:rPr b="0" lang="pt-BR" sz="3000" spc="-1" strike="noStrike">
                <a:solidFill>
                  <a:srgbClr val="000000"/>
                </a:solidFill>
                <a:latin typeface="Arial"/>
                <a:ea typeface="Arial"/>
              </a:rPr>
              <a:t>	</a:t>
            </a:r>
            <a:r>
              <a:rPr b="0" i="1" lang="pt-BR" sz="3000" spc="-1" strike="noStrike">
                <a:solidFill>
                  <a:srgbClr val="0000cc"/>
                </a:solidFill>
                <a:latin typeface="Calibri"/>
              </a:rPr>
              <a:t>“</a:t>
            </a:r>
            <a:r>
              <a:rPr b="0" i="1" lang="pt-BR" sz="2900" spc="-1" strike="noStrike">
                <a:solidFill>
                  <a:srgbClr val="0000cc"/>
                </a:solidFill>
                <a:latin typeface="Calibri"/>
              </a:rPr>
              <a:t>Se, então, o seu coração incircunciso se humilhar, e tomarem por bem o castigo da sua iniquidade, também eu me lembrarei do meu concerto com Jacó, e também do meu concerto com Isaque, e também do meu concerto com Abraão me lembrarei, e da terra me lembrarei.”</a:t>
            </a:r>
            <a:r>
              <a:rPr b="0" i="1" lang="pt-BR" sz="3000" spc="-1" strike="noStrike">
                <a:solidFill>
                  <a:srgbClr val="0000cc"/>
                </a:solidFill>
                <a:latin typeface="Calibri"/>
              </a:rPr>
              <a:t>      </a:t>
            </a:r>
            <a:r>
              <a:rPr b="0" i="1" lang="pt-BR" sz="3000" spc="-1" strike="noStrike">
                <a:solidFill>
                  <a:srgbClr val="c00000"/>
                </a:solidFill>
                <a:latin typeface="Calibri"/>
              </a:rPr>
              <a:t>(</a:t>
            </a:r>
            <a:r>
              <a:rPr b="0" i="1" lang="pt-BR" sz="3000" spc="-1" strike="noStrike">
                <a:solidFill>
                  <a:srgbClr val="0000cc"/>
                </a:solidFill>
                <a:latin typeface="Calibri"/>
              </a:rPr>
              <a:t>Lv 26.41,42</a:t>
            </a:r>
            <a:r>
              <a:rPr b="0" i="1" lang="pt-BR" sz="3000" spc="-1" strike="noStrike">
                <a:solidFill>
                  <a:srgbClr val="c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48"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ea typeface="Arial"/>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9"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55640" y="549360"/>
            <a:ext cx="7561440" cy="5975280"/>
          </a:xfrm>
          <a:prstGeom prst="rect">
            <a:avLst/>
          </a:prstGeom>
          <a:noFill/>
          <a:ln w="9360">
            <a:solidFill>
              <a:srgbClr val="0000cc"/>
            </a:solidFill>
            <a:miter/>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cc"/>
                </a:solidFill>
                <a:latin typeface="Arial"/>
                <a:ea typeface="Arial"/>
              </a:rPr>
              <a:t>Lv 26. 3  Se andardes nos meus estatutos, e guardardes os meus mandamentos, e os fizerdes,  4  então, eu vos darei as vossas chuvas a seu tempo; e a terra dará a sua novidade, e a árvore do campo dará o seu fruto.  5  E a debulha se vos chegará à vindima, e a vindima se chegará à sementeira; e comereis o vosso pão a fartar e habitareis seguros na vossa terra.  6  Também darei paz na terra; e dormireis seguros, e não haverá quem vos espante; e farei cessar os animais nocivos da terra, e pela vossa terra não passará espada.  7  E perseguireis os vossos inimigos, e cairão à espada diante de vós.  8  Cinco de vós perseguirão um cento, e cem de vós perseguirão dez mil; e os vossos inimigos cairão à espada diante de vós.  9  E para vós olharei, e vos farei frutificar, e vos multiplicarei, e confirmarei o meu concerto convosco.  10  E comereis o depósito velho, depois de envelhecido; e tirareis fora o velho, por causa do novo.  11  E porei o meu tabernáculo no meio de vós, e a minha alma de vós não se enfadará.  12  E andarei no meio de vós e eu vos serei por Deus, e vós me sereis por povo.  13  Eu sou o SENHOR, vosso Deus, que vos tirei da terra dos egípcios, para que não fôsseis seus escravos; e quebrei os timões do vosso jugo e vos fiz andar direitos. 14  Mas, se me não ouvirdes, e não fizerdes todos estes mandamentos,  15  e se rejeitardes os meus estatutos, e a vossa alma se enfadar dos meus juízos, não cumprindo todos os meus mandamentos, para invalidar o meu concerto,  16  então, eu também vos farei isto: porei sobre vós terror, a tísica e a febre ardente, que consumam os olhos e atormentem a alma; e semeareis debalde a vossa semente, e os vossos inimigos a comerão.  17  E porei a minha face contra vós, e sereis feridos diante de vossos inimigos; e os que vos aborrecerem de vós se assenhorearão, e fugireis, sem ninguém vos perseguir.</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3000" spc="-1" strike="noStrike">
                <a:solidFill>
                  <a:srgbClr val="c00000"/>
                </a:solidFill>
                <a:latin typeface="Times New Roman"/>
                <a:ea typeface="Times New Roman"/>
              </a:rPr>
              <a:t>LIÇÃO 11: O PREÇO DA DESOBEDIÊNCIA</a:t>
            </a:r>
            <a:endParaRPr b="0" lang="en-US" sz="3000" spc="-1" strike="noStrike">
              <a:solidFill>
                <a:srgbClr val="000000"/>
              </a:solidFill>
              <a:latin typeface="Calibri"/>
            </a:endParaRPr>
          </a:p>
        </p:txBody>
      </p:sp>
      <p:sp>
        <p:nvSpPr>
          <p:cNvPr id="99" name=""/>
          <p:cNvSpPr txBox="1"/>
          <p:nvPr/>
        </p:nvSpPr>
        <p:spPr>
          <a:xfrm>
            <a:off x="457200" y="1915920"/>
            <a:ext cx="8229600" cy="4033800"/>
          </a:xfrm>
          <a:prstGeom prst="rect">
            <a:avLst/>
          </a:prstGeom>
          <a:noFill/>
          <a:ln w="9360">
            <a:solidFill>
              <a:srgbClr val="c00000"/>
            </a:solidFill>
            <a:miter/>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c00000"/>
                </a:solidFill>
                <a:latin typeface="Arial"/>
                <a:ea typeface="Arial"/>
              </a:rPr>
              <a:t>Texto Áureo:</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endParaRPr b="0" lang="en-US" sz="1200" spc="-1" strike="noStrike">
              <a:solidFill>
                <a:srgbClr val="000000"/>
              </a:solidFill>
              <a:latin typeface="Calibri"/>
            </a:endParaRPr>
          </a:p>
          <a:p>
            <a:pPr>
              <a:lnSpc>
                <a:spcPct val="107000"/>
              </a:lnSpc>
              <a:spcBef>
                <a:spcPts val="7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ea typeface="Arial"/>
              </a:rPr>
              <a:t> </a:t>
            </a:r>
            <a:r>
              <a:rPr b="0" lang="pt-BR" sz="3000" spc="-1" strike="noStrike">
                <a:solidFill>
                  <a:srgbClr val="000000"/>
                </a:solidFill>
                <a:latin typeface="Arial"/>
                <a:ea typeface="Arial"/>
              </a:rPr>
              <a:t>	</a:t>
            </a:r>
            <a:r>
              <a:rPr b="0" i="1" lang="pt-BR" sz="3000" spc="-1" strike="noStrike">
                <a:solidFill>
                  <a:srgbClr val="0000cc"/>
                </a:solidFill>
                <a:latin typeface="Calibri"/>
              </a:rPr>
              <a:t>“</a:t>
            </a:r>
            <a:r>
              <a:rPr b="0" i="1" lang="pt-BR" sz="2900" spc="-1" strike="noStrike">
                <a:solidFill>
                  <a:srgbClr val="0000cc"/>
                </a:solidFill>
                <a:latin typeface="Calibri"/>
              </a:rPr>
              <a:t>Se, então, o seu coração incircunciso se humilhar, e tomarem por bem o castigo da sua iniquidade, também eu me lembrarei do meu concerto com Jacó, e também do meu concerto com Isaque, e também do meu concerto com Abraão me lembrarei, e da terra me lembrarei.”</a:t>
            </a:r>
            <a:r>
              <a:rPr b="0" i="1" lang="pt-BR" sz="3000" spc="-1" strike="noStrike">
                <a:solidFill>
                  <a:srgbClr val="0000cc"/>
                </a:solidFill>
                <a:latin typeface="Calibri"/>
              </a:rPr>
              <a:t>      </a:t>
            </a:r>
            <a:r>
              <a:rPr b="0" i="1" lang="pt-BR" sz="3000" spc="-1" strike="noStrike">
                <a:solidFill>
                  <a:srgbClr val="c00000"/>
                </a:solidFill>
                <a:latin typeface="Calibri"/>
              </a:rPr>
              <a:t>(</a:t>
            </a:r>
            <a:r>
              <a:rPr b="0" i="1" lang="pt-BR" sz="3000" spc="-1" strike="noStrike">
                <a:solidFill>
                  <a:srgbClr val="0000cc"/>
                </a:solidFill>
                <a:latin typeface="Calibri"/>
              </a:rPr>
              <a:t>Lv 26.41,42</a:t>
            </a:r>
            <a:r>
              <a:rPr b="0" i="1" lang="pt-BR" sz="3000" spc="-1" strike="noStrike">
                <a:solidFill>
                  <a:srgbClr val="c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01"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03" name=""/>
          <p:cNvSpPr txBox="1"/>
          <p:nvPr/>
        </p:nvSpPr>
        <p:spPr>
          <a:xfrm>
            <a:off x="457200" y="1557000"/>
            <a:ext cx="8229600" cy="48243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c0099"/>
                </a:solidFill>
                <a:latin typeface="Arial"/>
                <a:ea typeface="Arial"/>
              </a:rPr>
              <a:t>   </a:t>
            </a:r>
            <a:r>
              <a:rPr b="1" lang="pt-BR" sz="2100" spc="-1" strike="noStrike">
                <a:solidFill>
                  <a:srgbClr val="800080"/>
                </a:solidFill>
                <a:latin typeface="Calisto MT"/>
                <a:ea typeface="Times New Roman"/>
              </a:rPr>
              <a:t>INTRODUÇÃO</a:t>
            </a:r>
            <a:r>
              <a:rPr b="1" lang="pt-BR" sz="2100" spc="-1" strike="noStrike">
                <a:solidFill>
                  <a:srgbClr val="800080"/>
                </a:solidFill>
                <a:latin typeface="Calisto MT"/>
                <a:ea typeface="Times New Roman"/>
              </a:rPr>
              <a:t>	</a:t>
            </a:r>
            <a:r>
              <a:rPr b="1" lang="pt-BR" sz="2100" spc="-1" strike="noStrike">
                <a:solidFill>
                  <a:srgbClr val="4a452a"/>
                </a:solidFill>
                <a:latin typeface="Arial"/>
                <a:ea typeface="Arial"/>
              </a:rPr>
              <a:t>	</a:t>
            </a:r>
            <a:r>
              <a:rPr b="1" lang="pt-BR" sz="1300" spc="-1" strike="noStrike">
                <a:solidFill>
                  <a:srgbClr val="4a452a"/>
                </a:solidFill>
                <a:latin typeface="Arial"/>
                <a:ea typeface="Arial"/>
              </a:rPr>
              <a:t>	</a:t>
            </a:r>
            <a:r>
              <a:rPr b="1" lang="pt-BR" sz="1300" spc="-1" strike="noStrike">
                <a:solidFill>
                  <a:srgbClr val="4a452a"/>
                </a:solidFill>
                <a:latin typeface="Arial"/>
                <a:ea typeface="Arial"/>
              </a:rPr>
              <a:t>	</a:t>
            </a:r>
            <a:r>
              <a:rPr b="1" lang="pt-BR" sz="1300" spc="-1" strike="noStrike">
                <a:solidFill>
                  <a:srgbClr val="4a452a"/>
                </a:solidFill>
                <a:latin typeface="Arial"/>
                <a:ea typeface="Arial"/>
              </a:rPr>
              <a:t>	</a:t>
            </a:r>
            <a:r>
              <a:rPr b="1" lang="pt-BR" sz="1300" spc="-1" strike="noStrike">
                <a:solidFill>
                  <a:srgbClr val="4a452a"/>
                </a:solidFill>
                <a:latin typeface="Arial"/>
                <a:ea typeface="Arial"/>
              </a:rPr>
              <a:t>	</a:t>
            </a:r>
            <a:endParaRPr b="0" lang="en-US" sz="13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a:ea typeface="Arial"/>
              </a:rPr>
              <a:t>	</a:t>
            </a:r>
            <a:r>
              <a:rPr b="0" lang="pt-BR" sz="2500" spc="-1" strike="noStrike">
                <a:solidFill>
                  <a:srgbClr val="000000"/>
                </a:solidFill>
                <a:latin typeface="Arial"/>
                <a:ea typeface="Arial"/>
              </a:rPr>
              <a:t>Bem sabemos que a lei de Deus é boa, santa e justa; ninguém jamais se oporia a esta definição e a reconhecer o privilégio do povo escolhido para receber e preservar a sua revelação. Contudo, bem sabemos também qual é a inclinação da natureza humana, sua avidez por encontrar formas de burlar as imposições divinas ou, quando não as encontra, sua falta de limites para até mesmo rejeitá-las e desobedecê-las abertamente. Deus reservou o melhor para aqueles que O obedecem, mas, na Sua misericórdia para com o Seu povo, tudo fará para que até mesmo os desobedientes possam desfrutá-lo, ainda que tenha de trazê-los à obediência por um caminho doloroso que poderia ser evitad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11: O PREÇO DA DESOBEDIÊNCIA</a:t>
            </a:r>
            <a:endParaRPr b="0" lang="en-US" sz="2400" spc="-1" strike="noStrike">
              <a:solidFill>
                <a:srgbClr val="000000"/>
              </a:solidFill>
              <a:latin typeface="Calibri"/>
            </a:endParaRPr>
          </a:p>
        </p:txBody>
      </p:sp>
      <p:sp>
        <p:nvSpPr>
          <p:cNvPr id="105" name=""/>
          <p:cNvSpPr txBox="1"/>
          <p:nvPr/>
        </p:nvSpPr>
        <p:spPr>
          <a:xfrm>
            <a:off x="62208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 – A OBEDIÊNCIA E SUA RECOMPENS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13)</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DESOBEDIÊNCIA E O SEU PREÇO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14-38)</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DA DESOBEDIÊNCIA À OBEDIÊNCIA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VV. 39-46)</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68360" y="549000"/>
            <a:ext cx="8229600" cy="5832360"/>
          </a:xfrm>
          <a:prstGeom prst="rect">
            <a:avLst/>
          </a:prstGeom>
          <a:noFill/>
          <a:ln w="9360">
            <a:solidFill>
              <a:srgbClr val="0000cc"/>
            </a:solidFill>
            <a:miter/>
          </a:ln>
        </p:spPr>
        <p:txBody>
          <a:bodyPr anchor="t">
            <a:norm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cc"/>
                </a:solidFill>
                <a:latin typeface="Calisto MT"/>
                <a:ea typeface="Times New Roman"/>
              </a:rPr>
              <a:t>I – A OBEDIÊNCIA E SUA RECOMPENSA </a:t>
            </a:r>
            <a:endParaRPr b="0" lang="en-US" sz="1800" spc="-1" strike="noStrike">
              <a:solidFill>
                <a:srgbClr val="000000"/>
              </a:solidFill>
              <a:latin typeface="Calibri"/>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cc"/>
                </a:solidFill>
                <a:latin typeface="Times New Roman"/>
                <a:ea typeface="Calibri"/>
              </a:rPr>
              <a:t>Lv 26. 3  Se andardes nos meus estatutos, e guardardes os meus mandamentos, e os fizerdes,  4  então, eu vos darei as vossas chuvas a seu tempo; e a terra dará a sua novidade, e a árvore do campo dará o seu fruto.  5  E a debulha se vos chegará à vindima, e a vindima se chegará à sementeira; e comereis o vosso pão a fartar e habitareis seguros na vossa terra.  6  Também darei paz na terra; e dormireis seguros, e não haverá quem vos espante; e farei cessar os animais nocivos da terra, e pela vossa terra não passará espada.  7  E perseguireis os vossos inimigos, e cairão à espada diante de vós.  8  Cinco de vós perseguirão um cento, e cem de vós perseguirão dez mil; e os vossos inimigos cairão à espada diante de vós.  9  E para vós olharei, e vos farei frutificar, e vos multiplicarei, e confirmarei o meu concerto convosco.  10  E comereis o depósito velho, depois de envelhecido; e tirareis fora o velho, por causa do novo.  11  E porei o meu tabernáculo no meio de vós, e a minha alma de vós não se enfadará.  12  E andarei no meio de vós e eu vos serei por Deus, e vós me sereis por povo.  13  Eu sou o SENHOR, vosso Deus, que vos tirei da terra dos egípcios, para que não fôsseis seus escravos; e quebrei os timões do vosso jugo e vos fiz andar direit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Cássia</cp:lastModifiedBy>
  <dcterms:modified xsi:type="dcterms:W3CDTF">2020-12-08T19:54:17Z</dcterms:modified>
  <cp:revision>243</cp:revision>
  <dc:subject/>
  <dc:title>O LIVRO DO PENTATEUCO</dc:title>
</cp:coreProperties>
</file>