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8CF5-4A50-471F-912F-77A23D0D49A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87CA-B29B-4FB4-ADF0-E9A7665452F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949D-E047-41BB-87DA-E413706D9F3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028B-6CEE-4564-8C12-550646AD9D0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9816-7892-48FA-8E85-541669BA7B6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FCF9-44E0-4EEE-B8DC-0BBCD712150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39DF-596D-46C3-B293-37FA133DD89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CA3E-E0AE-4E60-833A-44C776DDB8E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C786-C5A8-4A2E-A005-A2C14628EE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C2ED-EE55-4B6F-AF7B-92211280EE4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4B43-24F5-4246-B1E5-F71E31D4D74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10EF-A008-47E6-9067-1F707E0A66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7C46-E4EC-4E35-994C-D7FEA51A832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7CED-0315-4E76-BC4B-769C595EE9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B072-557E-4BD9-B2CD-F1436996F45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91FE-C52B-4F24-95DF-69C95B224C3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A7C6-57B6-4238-A25E-6F975403F73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3986-5210-4AB0-9227-E01411401B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2316-9897-4BB5-840B-3406EC63FE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B62-67FF-4765-ABE3-6A625F2A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E03-C912-4576-AE79-1D253214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5DC-2AB6-4883-9B30-C098C61F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B77-2BDC-4E35-9A53-7A9C4C8D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C111-90D4-4279-B1B1-CB00851E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5376-5961-47B7-B893-F4961C9C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FF70-D35C-4C38-9383-08EA0E54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4806-DEC2-467D-A4BB-AA9A9E31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EA78-78D1-4E7F-A4E9-E242B192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ABDE-C4D9-4429-936F-10409683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5E46-9941-4C81-8D35-B046E0DD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A0C-D4DA-49D5-AA53-B4321218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85DB-061C-4268-B8E5-D49702D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AA13-E336-4DA9-8BBE-0CDEBAA0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2A01-A7E4-4CFB-BF4E-31373FA1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75F2-8F7E-448D-B7AB-EB33DF77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5121-4B26-403D-A6C5-68C1662A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891-742B-442A-AB79-EC569ABC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11B-A44D-4692-A839-395A4822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728-920B-4E05-86E9-FE1790AE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E75-9EDB-49AA-9597-CA8D72FD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589-15B8-4523-BB91-32C30E3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738-943D-4F4C-9E91-59A80E7B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02B-701C-4CD2-A748-C8AECEA7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F8D6-6DBA-4456-A086-F4B485D6895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556D-54C6-482C-8CB4-21513EDEE51C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576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0099"/>
                </a:solidFill>
                <a:latin typeface="Arial"/>
              </a:rPr>
              <a:t>LEVÍ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ítulo 2"/>
          <p:cNvSpPr/>
          <p:nvPr/>
        </p:nvSpPr>
        <p:spPr>
          <a:xfrm>
            <a:off x="468360" y="4869000"/>
            <a:ext cx="849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984807"/>
                </a:solidFill>
                <a:latin typeface="Calibri"/>
              </a:rPr>
              <a:t>E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984807"/>
                </a:solidFill>
                <a:latin typeface="Calibri"/>
              </a:rPr>
              <a:t>4º TRIMESTRE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agem 4" descr="E:\Levítico\tabernaculo-1.jpg"/>
          <p:cNvPicPr/>
          <p:nvPr/>
        </p:nvPicPr>
        <p:blipFill>
          <a:blip r:embed="rId1"/>
          <a:stretch/>
        </p:blipFill>
        <p:spPr>
          <a:xfrm>
            <a:off x="2112840" y="0"/>
            <a:ext cx="7056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3141720"/>
            <a:ext cx="8229600" cy="3238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At 14.  15-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Rm 1.  21-3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2360" y="189000"/>
            <a:ext cx="8229600" cy="7063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200"/>
            </a:br>
            <a:r>
              <a:rPr b="1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5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 – ABOMINAÇÕES NA FALTA DO PUDOR E NO CASA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2 -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qui encontramos uma das razões pelas quais os cananeus seriam expulsos e substituídos pelos hebreus na posse da terra que manava leite e mel. Deus governa com justiça todos os povos, e os cananeus tiveram sua oportunidade e foram suportados com grande paciência, até que se mostraram completamente indignos da benção divina. E por amor à promessa feita a Abraão e aos pais que eles receberiam aquela terra, mas também agora era sua vez de se mostrarem dignos de tão grande beneficência, através da obediência à vontade divina, tal como revelada nas leis que haviam recebido. Aqueles povos foram destruídos por tê-las transgredido, os israelitas viveriam se as cumprissem.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cf. </a:t>
            </a:r>
            <a:r>
              <a:rPr b="0" lang="pt-BR" sz="2300" spc="-1" strike="noStrike">
                <a:solidFill>
                  <a:srgbClr val="0000cc"/>
                </a:solidFill>
                <a:latin typeface="Calibri"/>
              </a:rPr>
              <a:t>Gn 15.13-16; Dt 7.6-11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2421000"/>
            <a:ext cx="8229600" cy="18000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Gn 15.  13-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Dt 7.  6-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22360" y="189000"/>
            <a:ext cx="8229600" cy="7063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200"/>
            </a:br>
            <a:r>
              <a:rPr b="1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 – ABOMINAÇÕES NA FALTA DO PUDOR E NO CASAMENT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  <a:ea typeface="Arial"/>
              </a:rPr>
              <a:t>3 - A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o longo do capítulo 18, o Senhor detalha diversas situações envolvendo a relação conjugal – ou melhor, perversões e confusões criadas pelos gentios em torno da instituição divina do casamento. A lei divina, natural para todos os povos, ditava tanto a honra e o pudor no trato com os familiares, como também a clareza de propósito do casamento: “</a:t>
            </a:r>
            <a:r>
              <a:rPr b="0" lang="pt-BR" sz="1900" spc="-1" strike="noStrike">
                <a:solidFill>
                  <a:srgbClr val="0000cc"/>
                </a:solidFill>
                <a:latin typeface="Calibri"/>
              </a:rPr>
              <a:t>Deixará o homem o seu pai e sua mãe, e unir-se-á à sua mulher, e serão ambos uma só carne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” (</a:t>
            </a:r>
            <a:r>
              <a:rPr b="0" lang="pt-BR" sz="1900" spc="-1" strike="noStrike">
                <a:solidFill>
                  <a:srgbClr val="0000cc"/>
                </a:solidFill>
                <a:latin typeface="Calibri"/>
              </a:rPr>
              <a:t>Gn 2.24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), implicando estas palavras na formação de um núcleo familiar, na comunhão indissolúvel do casal. Os gentios, pelo contrário, no intuito de satisfazer suas próprias paixões, pouco se importavam com a violação do pudor e buscavam todo tipo de união concebível, não importando com o que essas relações implicassem: expor a nudez de familiares e parentes, bem como uniões incestuosas com os mesmos (vv. </a:t>
            </a:r>
            <a:r>
              <a:rPr b="0" lang="pt-BR" sz="1900" spc="-1" strike="noStrike">
                <a:solidFill>
                  <a:srgbClr val="0000cc"/>
                </a:solidFill>
                <a:latin typeface="Calibri"/>
              </a:rPr>
              <a:t>6-18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), uniões com mulheres no seu período de impureza ritual (v. </a:t>
            </a:r>
            <a:r>
              <a:rPr b="0" lang="pt-BR" sz="1900" spc="-1" strike="noStrike">
                <a:solidFill>
                  <a:srgbClr val="0000cc"/>
                </a:solidFill>
                <a:latin typeface="Calibri"/>
              </a:rPr>
              <a:t>19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), uniões adúlteras (v. </a:t>
            </a:r>
            <a:r>
              <a:rPr b="0" lang="pt-BR" sz="1900" spc="-1" strike="noStrike">
                <a:solidFill>
                  <a:srgbClr val="0000cc"/>
                </a:solidFill>
                <a:latin typeface="Calibri"/>
              </a:rPr>
              <a:t>20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), uniões homossexuais (v. </a:t>
            </a:r>
            <a:r>
              <a:rPr b="0" lang="pt-BR" sz="1900" spc="-1" strike="noStrike">
                <a:solidFill>
                  <a:srgbClr val="0000cc"/>
                </a:solidFill>
                <a:latin typeface="Calibri"/>
              </a:rPr>
              <a:t>22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) e bestiais (v. </a:t>
            </a:r>
            <a:r>
              <a:rPr b="0" lang="pt-BR" sz="1900" spc="-1" strike="noStrike">
                <a:solidFill>
                  <a:srgbClr val="0000cc"/>
                </a:solidFill>
                <a:latin typeface="Calibri"/>
              </a:rPr>
              <a:t>23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). Tais uniões implicavam em violação da lei moral de Deus e deviam ser punidas rigorosamente como pecados inexpiáveis (</a:t>
            </a:r>
            <a:r>
              <a:rPr b="0" lang="pt-BR" sz="1900" spc="-1" strike="noStrike">
                <a:solidFill>
                  <a:srgbClr val="0000cc"/>
                </a:solidFill>
                <a:latin typeface="Calibri"/>
              </a:rPr>
              <a:t>Lv 20.10-21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). Por isso são chamadas de “abominações” e são igualmente condenadas sob a dispensação do evangelh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 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1 Co 5.1; 6.10; Gl 5.19-21</a:t>
            </a: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2420640"/>
            <a:ext cx="8229600" cy="2808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1 Co 6. 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Gl 5.  19-2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b050"/>
                </a:solidFill>
                <a:latin typeface="Times New Roman"/>
                <a:ea typeface="Calibri"/>
              </a:rPr>
              <a:t>18. 6 Nenhum homem se chegará a qualquer parenta da sua carne para descobrir a sua nudez. Eu sou o SENHOR.  7  Não descobrirás a nudez de teu pai e de tua mãe; ela é tua mãe; não descobrirás a sua nudez.  8  Não descobrirás a nudez da mulher de teu pai.  9  A nudez de tua irmã, filha de teu pai ou filha de tua mãe, nascida em casa ou fora da casa, a sua nudez não descobrirás.</a:t>
            </a:r>
            <a:r>
              <a:rPr b="0" lang="pt-BR" sz="2600" spc="-1" strike="noStrike">
                <a:solidFill>
                  <a:srgbClr val="00b050"/>
                </a:solidFill>
                <a:latin typeface="Times New Roman"/>
                <a:ea typeface="Calibri"/>
              </a:rPr>
              <a:t>	</a:t>
            </a:r>
            <a:r>
              <a:rPr b="0" lang="pt-BR" sz="2600" spc="-1" strike="noStrike">
                <a:solidFill>
                  <a:srgbClr val="00b050"/>
                </a:solidFill>
                <a:latin typeface="Times New Roman"/>
                <a:ea typeface="Calibri"/>
              </a:rPr>
              <a:t>... Até 18</a:t>
            </a:r>
            <a:r>
              <a:rPr b="0" lang="pt-BR" sz="2600" spc="-1" strike="noStrike">
                <a:solidFill>
                  <a:srgbClr val="00b050"/>
                </a:solidFill>
                <a:latin typeface="Times New Roman"/>
                <a:ea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Times New Roman"/>
                <a:ea typeface="Calibri"/>
              </a:rPr>
              <a:t>19  E não te chegarás à mulher durante a separação da sua imundícia, para descobrir a sua nudez,  20  nem te deitarás com a mulher de teu próximo para cópula, para te contaminares com el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0000"/>
                </a:solidFill>
                <a:latin typeface="Times New Roman"/>
                <a:ea typeface="Calibri"/>
              </a:rPr>
              <a:t>18. 22  Com varão te não deitarás, como se fosse mulher: abominação é;  23  nem te deitarás com um animal, para te contaminares com ele; nem a mulher se porá perante um animal, para ajuntar-se com ele: confusão 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b050"/>
                </a:solidFill>
                <a:latin typeface="Times New Roman"/>
                <a:ea typeface="Calibri"/>
              </a:rPr>
              <a:t>27  porque todas estas abominações fizeram os homens desta terra, que nela estavam antes de vós; e a terra foi contaminada.  29  Porém qualquer que fizer alguma dessas abominações, as almas que as fizerem serão extirpadas do seu povo.</a:t>
            </a:r>
            <a:r>
              <a:rPr b="0" lang="pt-BR" sz="2500" spc="-1" strike="noStrike">
                <a:solidFill>
                  <a:srgbClr val="00b050"/>
                </a:solidFill>
                <a:latin typeface="Times New Roman"/>
                <a:ea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b050"/>
                </a:solidFill>
                <a:latin typeface="Times New Roman"/>
                <a:ea typeface="Calibri"/>
              </a:rPr>
              <a:t>30  Portanto, guardareis o meu mandado, não fazendo nenhum dos estatutos abomináveis que se fizeram antes de vós, e não vos contamineis com eles. Eu sou o SENHOR, vosso Deu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400"/>
            </a:br>
            <a:r>
              <a:rPr b="1" lang="pt-B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2080" y="1989000"/>
            <a:ext cx="806436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INTRODU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 – ABOMINAÇÕES NA FALTA DO PUDOR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NO CASAMENTO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alisto MT"/>
                <a:ea typeface="Times New Roman"/>
              </a:rPr>
              <a:t>II – ABOMINAÇÕES E INJUSTIÇ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Calisto MT"/>
                <a:ea typeface="Times New Roman"/>
              </a:rPr>
              <a:t>DIVER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I – CRISTO NOS RESGATOU D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ABOMINAÇÕES DAS N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CONCLUS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200"/>
            </a:br>
            <a:r>
              <a:rPr b="1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 – ABOMINAÇÕES E INJUSTIÇAS DIVERSA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  <a:ea typeface="Arial"/>
              </a:rPr>
              <a:t>1 -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  <a:ea typeface="Arial"/>
              </a:rPr>
              <a:t>No capítulo 19 e 20 encontramos proibições e advertências de Deus sobre diversas situações, algumas envolvendo a violação da lei dos mandamentos, outras relacionadas à santidade proclamada nos rituais levíticos, e outras ainda tratando de questões que hoje chamaríamos de “sociais”, pois dizem respeito ao relacionamento dos israelitas uns com os outros em circunstâncias que poderiam envolver injustiça e opressão sobre os mais fracos, caso o Senhor não estabelecesse princípios que favorecessem a prática do amor e da benevolência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 fontScale="97000"/>
          </a:bodyPr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19.  3  Cada um temerá a sua mãe e a seu pai e guardará os meus sábados. Eu sou o Senhor, vosso Deus.  4  Não vos virareis para os ídolos, nem vos fareis deuses de fundição. Eu sou o Senhor, vosso Deu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b050"/>
                </a:solidFill>
                <a:latin typeface="Times New Roman"/>
                <a:ea typeface="Calibri"/>
              </a:rPr>
              <a:t>9  Quando também segardes a sega da vossa terra, o canto do teu campo não segarás totalmente, nem as espigas caídas colherás da tua sega.  10  Semelhantemente não rabiscarás a tua vinha, nem colherás os bagos caídos da tua vinha; deixá-los-ás ao pobre e ao estrangeiro. Eu sou o SENHOR, vosso Deu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11  Não furtareis, nem mentireis, nem usareis de falsidade cada um com o seu próximo;  12  nem jurareis falso pelo meu nome, pois profanaríeis o nome do vosso Deus. Eu sou o Senh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14  Não amaldiçoarás ao surdo, nem porás tropeço diante do cego; mas terás temor do teu Deus. Eu sou o SENHOR.  15  Não fareis injustiça no juízo; não aceitarás o pobre, nem respeitarás o grande; com justiça julgarás o teu próxim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3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Arial"/>
              </a:rPr>
              <a:t>L E V Í T I C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3141720"/>
            <a:ext cx="8229600" cy="1403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7"/>
          <p:cNvSpPr/>
          <p:nvPr/>
        </p:nvSpPr>
        <p:spPr>
          <a:xfrm>
            <a:off x="887400" y="51577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b050"/>
                </a:solidFill>
                <a:latin typeface="Calibri"/>
              </a:rPr>
              <a:t>CLASSES DE JOVENS E ADULTOS DA E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19. 16  Não andarás como mexeriqueiro entre o teu povo; não te porás contra o sangue do teu próximo. Eu sou o SENHOR.  17  Não aborrecerás a teu irmão no teu coração; não deixarás de repreender o teu próximo e nele não sofrerás pecado. 18  Não te vingarás, nem guardarás ira contra os filhos do teu povo; mas amarás o teu próximo como a ti mesmo. Eu sou o Senh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8000"/>
                </a:solidFill>
                <a:latin typeface="Times New Roman"/>
                <a:ea typeface="Calibri"/>
              </a:rPr>
              <a:t>27  Não cortareis o cabelo, arredondando os cantos da vossa cabeça, nem danificarás a ponta da tua barb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28  Pelos mortos não dareis golpes na vossa carne; nem fareis marca alguma sobre vós. Eu sou o SENH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32  Diante das cãs te levantarás, e honrarás a face do velho, e terás temor do teu Deus. Eu sou o SENH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8000"/>
                </a:solidFill>
                <a:latin typeface="Times New Roman"/>
                <a:ea typeface="Calibri"/>
              </a:rPr>
              <a:t>35  Não cometereis injustiça no juízo, nem na vara, nem no peso, nem na medida.  36  Balanças justas, pedras justas, efa justo e justo him tereis. Eu sou o SENHOR, vosso Deus, que vos tirei da terra do Egi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400"/>
            </a:br>
            <a:r>
              <a:rPr b="1" lang="pt-B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 – ABOMINAÇÕES E INJUSTIÇAS DIVERS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Arial"/>
              </a:rPr>
              <a:t>2 -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Não sendo possível nos delongarmos sobre sobre todos os assuntos discutidos aqui, apontamos apenas alguns, como a advertência contra a idolatria, que podia assumir formas horrendas e cruéis como entre os gentios, e contra adivinhações, encantamentos e qualquer outra prática baseada em superstições relacionadas ao mundo espiritual ou aos mortos. Tais práticas deviam ser abominadas e condenadas da forma mais rígida entre o povo que conhecia aqu’Ele que é o Senhor, o único Deus. Destacamos ainda que, mais do que simplesmente impor uma norma ética correta, o padrão de conduta social aqui definido por Deus visava incutir no coração do israelita o amor pelo próximo – amor que, na plenitude dos tempos, o Senhor Jesus expressaria novamente na mesma expressão já enunciada em Levítico: “</a:t>
            </a:r>
            <a:r>
              <a:rPr b="0" lang="pt-BR" sz="2200" spc="-1" strike="noStrike">
                <a:solidFill>
                  <a:srgbClr val="0000cc"/>
                </a:solidFill>
                <a:latin typeface="Calibri"/>
              </a:rPr>
              <a:t>Amarás o teu próximo como a ti mesm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”. Por fim, em cosequência dessas leis, a nascente sociedade israelita desenvolveu um caráter único que a diferenciava de todos os outros povos como uma nação justa, benevolente e piedosa, seja no trato dos seus líderes com o povo, seja no trato de uns com os outros, seja no trato com os estrangeiros.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 fontScale="98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80"/>
                </a:solidFill>
                <a:latin typeface="Times New Roman"/>
                <a:ea typeface="Calibri"/>
              </a:rPr>
              <a:t>20.  2  Também dirás aos filhos de Israel: Qualquer que, dos filhos de Israel ou dos estrangeiros que peregrinam em Israel, der da sua semente a Moloque, certamente morrerá; o povo da terra o apedrejará com pedra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6  Quando uma alma se virar para os adivinhadores e encantadores, para se prostituir após eles, eu porei a minha face contra aquela alma e a extirparei do meio do seu povo.  (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  Quando um homem amaldiçoar a seu pai ou a sua mãe, certamente morrerá: amaldiçoou a seu pai ou a sua mãe; o seu sangue é sobre e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80"/>
                </a:solidFill>
                <a:latin typeface="Times New Roman"/>
                <a:ea typeface="Calibri"/>
              </a:rPr>
              <a:t>10  Também o homem que adulterar com a mulher de outro, havendo adulterado com a mulher do seu próximo, certamente morrerá o adúltero e a adúlte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80"/>
                </a:solidFill>
                <a:latin typeface="Times New Roman"/>
                <a:ea typeface="Calibri"/>
              </a:rPr>
              <a:t>20.  </a:t>
            </a:r>
            <a:r>
              <a:rPr b="0" lang="pt-BR" sz="2600" spc="-1" strike="noStrike">
                <a:solidFill>
                  <a:srgbClr val="ff0000"/>
                </a:solidFill>
                <a:latin typeface="Times New Roman"/>
                <a:ea typeface="Calibri"/>
              </a:rPr>
              <a:t>13  Quando também um homem se deitar com outro homem como com mulher, ambos fizeram abominação; certamente morrerão; o seu sangue é sobre e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80"/>
                </a:solidFill>
                <a:latin typeface="Times New Roman"/>
                <a:ea typeface="Calibri"/>
              </a:rPr>
              <a:t>15  Quando também um homem se deitar com um animal, certamente morrerá; e matareis o animal.  16  Também a mulher que se chegar a algum animal, para ter ajuntamento com ele, aquela mulher matarás com o animal; certamente morrerão; o seu sangue é sobre eles.</a:t>
            </a:r>
            <a:r>
              <a:rPr b="0" lang="pt-BR" sz="2600" spc="-1" strike="noStrike">
                <a:solidFill>
                  <a:srgbClr val="80008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Times New Roman"/>
                <a:ea typeface="Calibri"/>
              </a:rPr>
              <a:t>27  Quando, pois, algum homem ou mulher em si tiver um espírito adivinho ou for encantador, certamente morrerão; com pedras se apedrejarão; o seu sangue é sobre e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400"/>
            </a:br>
            <a:r>
              <a:rPr b="1" lang="pt-B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22080" y="1989000"/>
            <a:ext cx="806436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INTRODU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 – ABOMINAÇÕES NA FALTA DO PUDOR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NO CASAMENTO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 – ABOMINAÇÕES E INJUSTIÇ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DIVER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alisto MT"/>
                <a:ea typeface="Times New Roman"/>
              </a:rPr>
              <a:t>III – CRISTO NOS RESGATOU D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Calisto MT"/>
                <a:ea typeface="Times New Roman"/>
              </a:rPr>
              <a:t>ABOMINAÇÕES DAS N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CONCLUS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200"/>
            </a:br>
            <a:r>
              <a:rPr b="1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I– CRISTO NOS RESGATOU DAS ABOMINAÇÕES DAS NAÇÕ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1 –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lição que podemos extrair destes capítulos para aplicação à igreja atual é a de que, assim como Israel, nós também fomos chamados para ser uma nação que conhece a vontade de Deus e sabe que a Sua vontade não é apenas uma negação dos costumes do mundo, mas a afirmação de uma santidade que nasce no interior, pela graça e o poder assegurados pela obra de nosso Senhor Jesus, e que deve prevalecer sobre o pecado em um modo de vida justo, piedoso e agradável a Deus. As trevas de ignorância e afastamento de Deus em que as nações se encontram mostram-se um abismo cada vez mais profundo e o pecado torna-se rapidamente em hábito social aprovado e, depois, incentivado e imposto sobre os incautos e incapazes de discernir o certo do errado. Israel fracassou em se conformar à santidade divina, aderindo aos costumes dos povos até serem eles mesmos desarraigados da Terra Prometida; e muitos hoje também são induzidos a se conformar com este mundo; contudo, o mandato moral de Deus permanece o mesmo.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 (Rm 12.1-3; 1 Pe 4.1-4); 2 Tm 2.19; Mt 7.24-27; Tt 2.11-14; 1 Pe 2.9-10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125360"/>
            <a:ext cx="8229600" cy="5183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cc"/>
                </a:solidFill>
                <a:latin typeface="Calibri"/>
              </a:rPr>
              <a:t>Rm 12.  1-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Calibri"/>
              </a:rPr>
              <a:t>1 Pe 4.  1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Calibri"/>
              </a:rPr>
              <a:t>2 Tm 2.  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Calibri"/>
              </a:rPr>
              <a:t>Mt 7.  24-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Calibri"/>
              </a:rPr>
              <a:t>Tt 2.  11-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Calibri"/>
              </a:rPr>
              <a:t>1 Pe 2.  9-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400"/>
            </a:br>
            <a:r>
              <a:rPr b="1" lang="pt-B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2080" y="1989000"/>
            <a:ext cx="806436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INTRODU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 – ABOMINAÇÕES NA FALTA DO PUDOR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NO CASAMENTO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 – ABOMINAÇÕES E INJUSTIÇ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DIVER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I – CRISTO NOS RESGATOU D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ABOMINAÇÕES DAS N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</a:t>
            </a:r>
            <a:r>
              <a:rPr b="1" lang="pt-BR" sz="3200" spc="-1" strike="noStrike">
                <a:solidFill>
                  <a:srgbClr val="ff0000"/>
                </a:solidFill>
                <a:latin typeface="Calisto MT"/>
                <a:ea typeface="Times New Roman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400"/>
            </a:br>
            <a:r>
              <a:rPr b="1" lang="pt-B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928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800080"/>
                </a:solidFill>
                <a:latin typeface="Calisto MT"/>
                <a:ea typeface="Times New Roman"/>
              </a:rPr>
              <a:t>CONCLUS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800080"/>
                </a:solidFill>
                <a:latin typeface="Calisto MT"/>
                <a:ea typeface="Times New Roman"/>
              </a:rPr>
              <a:t> </a:t>
            </a:r>
            <a:r>
              <a:rPr b="1" lang="pt-BR" sz="13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13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vir a Deus não é simplesmente uma negação dos costumes deste mundo; é reconhecer o Seu senhorio sobre a nossa vida, entender Sua vontade boa, santa e agradável, e então viver de acordo com ela, seguros de que este é o único caminho para uma existência realmente significativa, com um propósito divino e cujos frutos serão colhidos não apenas na bem-aventurança da comunhão divina neste mundo, mas na eternida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400"/>
            </a:br>
            <a:r>
              <a:rPr b="1" lang="pt-B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2080" y="1989000"/>
            <a:ext cx="806436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INTRODU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 – ABOMINAÇÕES NA FALTA DO PUDOR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NO CASAMENTO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 – ABOMINAÇÕES E INJUSTIÇ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DIVER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I – CRISTO NOS RESGATOU D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ABOMINAÇÕES DAS N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CONCLUS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800"/>
            </a:br>
            <a:r>
              <a:rPr b="1" lang="pt-BR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Leitura Bíblica:   </a:t>
            </a:r>
            <a:r>
              <a:rPr b="1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Levítico 18 .1-5,26-3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3200"/>
            </a:br>
            <a:r>
              <a:rPr b="1" lang="pt-BR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17520" y="1908000"/>
            <a:ext cx="846612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576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0099"/>
                </a:solidFill>
                <a:latin typeface="Calibri"/>
              </a:rPr>
              <a:t>LEVÍT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ubtítulo 2"/>
          <p:cNvSpPr/>
          <p:nvPr/>
        </p:nvSpPr>
        <p:spPr>
          <a:xfrm>
            <a:off x="468360" y="4869000"/>
            <a:ext cx="849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984807"/>
                </a:solidFill>
                <a:latin typeface="Calibri"/>
              </a:rPr>
              <a:t>E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984807"/>
                </a:solidFill>
                <a:latin typeface="Calibri"/>
              </a:rPr>
              <a:t>4º TRIMESTRE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m 4" descr="E:\Levítico\tabernaculo-1.jpg"/>
          <p:cNvPicPr/>
          <p:nvPr/>
        </p:nvPicPr>
        <p:blipFill>
          <a:blip r:embed="rId1"/>
          <a:stretch/>
        </p:blipFill>
        <p:spPr>
          <a:xfrm>
            <a:off x="2112840" y="0"/>
            <a:ext cx="7056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55640" y="333360"/>
            <a:ext cx="7561440" cy="6191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cc"/>
                </a:solidFill>
                <a:latin typeface="Arial"/>
                <a:ea typeface="Arial"/>
              </a:rPr>
              <a:t>Lv 18. 1  Falou mais o Senhor a Moisés, dizendo:  2  Fala aos filhos de Israel e dize-lhes: Eu sou o Senhor, vosso Deus.  3  Não fareis segundo as obras da terra do Egito, em que habitastes, nem fareis segundo as obras da terra de Canaã, para a qual eu vos levo, nem andareis nos seus estatutos.  4  Fareis conforme os meus juízos e os meus estatutos guardareis, para andardes neles. Eu sou o Senhor, vosso Deus.  5  Portanto, os meus estatutos e os meus juízos guardareis; os quais, fazendo-os o homem, viverá por eles. Eu sou o Senho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cc"/>
                </a:solidFill>
                <a:latin typeface="Arial"/>
                <a:ea typeface="Arial"/>
              </a:rPr>
              <a:t>26  Porém vós guardareis os meus estatutos e os meus juízos, e nenhuma dessas abominações fareis nem o natural, nem o estrangeiro que peregrina entre vós;  27  porque todas estas abominações fizeram os homens desta terra, que nela estavam antes de vós; e a terra foi contaminada.  28  Para que a terra vos não vomite, havendo-a vós contaminado, como vomitou a gente que nela estava antes de vós.  29  Porém qualquer que fizer alguma dessas abominações, as almas que as fizerem serão extirpadas do seu povo.  30  Portanto, guardareis o meu mandado, não fazendo nenhum dos estatutos abomináveis que se fizeram antes de vós, e não vos contamineis com eles. Eu sou o SENHOR, vosso Deu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3200"/>
            </a:br>
            <a:r>
              <a:rPr b="1" lang="pt-BR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17520" y="1908000"/>
            <a:ext cx="846612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400"/>
            </a:br>
            <a:r>
              <a:rPr b="1" lang="pt-B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080" y="1989000"/>
            <a:ext cx="806436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INTRODU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 – ABOMINAÇÕES NA FALTA DO PUDOR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NO CASAMENTO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 – ABOMINAÇÕES E INJUSTIÇ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DIVER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I – CRISTO NOS RESGATOU D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ABOMINAÇÕES DAS N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CONCLUS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400"/>
            </a:br>
            <a:r>
              <a:rPr b="1" lang="pt-B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cc0099"/>
                </a:solidFill>
                <a:latin typeface="Arial"/>
                <a:ea typeface="Arial"/>
              </a:rPr>
              <a:t>   </a:t>
            </a:r>
            <a:r>
              <a:rPr b="1" lang="pt-BR" sz="21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NTRODUÇÃO</a:t>
            </a:r>
            <a:r>
              <a:rPr b="1" lang="pt-BR" sz="1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1500" spc="-1" strike="noStrike">
                <a:solidFill>
                  <a:srgbClr val="4a452a"/>
                </a:solidFill>
                <a:latin typeface="Arial"/>
                <a:ea typeface="Arial"/>
              </a:rPr>
              <a:t>	</a:t>
            </a:r>
            <a:r>
              <a:rPr b="1" lang="pt-BR" sz="1500" spc="-1" strike="noStrike">
                <a:solidFill>
                  <a:srgbClr val="4a452a"/>
                </a:solidFill>
                <a:latin typeface="Arial"/>
                <a:ea typeface="Arial"/>
              </a:rPr>
              <a:t>	</a:t>
            </a:r>
            <a:r>
              <a:rPr b="1" lang="pt-BR" sz="1500" spc="-1" strike="noStrike">
                <a:solidFill>
                  <a:srgbClr val="4a452a"/>
                </a:solidFill>
                <a:latin typeface="Arial"/>
                <a:ea typeface="Arial"/>
              </a:rPr>
              <a:t>	</a:t>
            </a:r>
            <a:r>
              <a:rPr b="1" lang="pt-BR" sz="1500" spc="-1" strike="noStrike">
                <a:solidFill>
                  <a:srgbClr val="4a452a"/>
                </a:solidFill>
                <a:latin typeface="Arial"/>
                <a:ea typeface="Arial"/>
              </a:rPr>
              <a:t>	</a:t>
            </a:r>
            <a:r>
              <a:rPr b="1" lang="pt-BR" sz="1500" spc="-1" strike="noStrike">
                <a:solidFill>
                  <a:srgbClr val="4a452a"/>
                </a:solidFill>
                <a:latin typeface="Arial"/>
                <a:ea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ais do que uma série de leis abrangendo diversos aspectos da conduta do povo de Israel, os capítulos que ora estudaremos são um testemunho da corrupção social e moral das nações no meio das quais a descendência de Abraão habitaria. O Senhor já lhes havia confiado leis que eram suficientes para instrui-los no caminho da verdadeira justiça e santidade; mas tamanhas eram as trevas da ignorância em que viviam os gentios que se fazia necessário exemplificar e discriminar diversos comportamentos que para aqueles povos bem podiam se passar por normais, mas, para o povo que servia ao Deus vivo e verdadeiro e desfrutava da luz da Sua lei, deviam ser condenados e abomin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400"/>
            </a:br>
            <a:r>
              <a:rPr b="1" lang="pt-B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2080" y="1989000"/>
            <a:ext cx="806436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INTRODU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alisto MT"/>
                <a:ea typeface="Times New Roman"/>
              </a:rPr>
              <a:t>I – ABOMINAÇÕES NA FALTA DO PUDOR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Calisto MT"/>
                <a:ea typeface="Times New Roman"/>
              </a:rPr>
              <a:t>NO CASAMENTO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pt-BR" sz="12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 – ABOMINAÇÕES E INJUSTIÇ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DIVER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II – CRISTO NOS RESGATOU D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ABOMINAÇÕES DAS N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800080"/>
                </a:solidFill>
                <a:latin typeface="Calisto MT"/>
                <a:ea typeface="Times New Roman"/>
              </a:rPr>
              <a:t>- CONCLUS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  <a:ea typeface="Arial"/>
              </a:rPr>
              <a:t>L E V Í T I C O</a:t>
            </a:r>
            <a:br>
              <a:rPr sz="2200"/>
            </a:br>
            <a:r>
              <a:rPr b="1" lang="pt-BR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ÇÃO 06: AS ABOMINAÇÕES DAS NAÇÕ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800080"/>
                </a:solidFill>
                <a:latin typeface="Calisto MT"/>
                <a:ea typeface="Times New Roman"/>
              </a:rPr>
              <a:t>I – ABOMINAÇÕES NA FALTA DO PUDOR E NO CASAMENT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1 -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O propósito de Deus nas advertências que encontramos nestes três capítulos de Levítico era conscientizar os israelitas de que muitos costumes e hábitos do povo no meio do qual haviam vivido – os egípcios – e que ainda encontrariam em sua jornada – os cananeus – eram impuros, injustos aos olhos do Senhor. Esses povos andavam em seus próprios caminhos, alheios a Deus e rebeldes à Sua vontade expressa até mesmo na natureza e na consciência de cada indivíduo; em consequência disso, haviam sido abandonados às suas próprias paixões, superstições e ídolos, tornando-se ainda mais réprobos e dignos do juízo de Deus.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At 14.15-17; Rm 1.21-32</a:t>
            </a: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15:13:54Z</dcterms:created>
  <dc:creator>ASSEMBLEIAS DE DEUS</dc:creator>
  <dc:description/>
  <dc:language>en-US</dc:language>
  <cp:lastModifiedBy>I.G.V</cp:lastModifiedBy>
  <dcterms:modified xsi:type="dcterms:W3CDTF">2020-11-04T00:40:25Z</dcterms:modified>
  <cp:revision>166</cp:revision>
  <dc:subject/>
  <dc:title>O LIVRO DO PENTATEUCO</dc:title>
</cp:coreProperties>
</file>