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818-E3B9-4404-916E-633B812A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123-548C-488C-B263-25CC4372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6D9-719B-4D5B-8AF8-66ED85EA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6EC-FE02-4A76-9EE3-79078256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6AA-997E-49F8-A970-68FD8BE7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AB0-C1FF-4FF0-8DE1-03362C44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EA1-47DF-4E28-834C-36E92AF2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716-521B-472F-9758-E805E1EE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EB8-71DE-44BB-85CB-AEC5616D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142-0448-46D4-B25D-DBFC38D3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C30-3C56-4E49-84A1-4FB2AA6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9A2-C149-4767-8BEA-602A4C8B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90CD-1D94-499A-ADFF-6B90CE2AB17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Afonso2020\EBD2020\EBD2020Trim2_Daniel\Daniel alimentação1.jpg"/>
          <p:cNvPicPr/>
          <p:nvPr/>
        </p:nvPicPr>
        <p:blipFill>
          <a:blip r:embed="rId1"/>
          <a:srcRect l="0" t="0" r="26201" b="0"/>
          <a:stretch/>
        </p:blipFill>
        <p:spPr>
          <a:xfrm>
            <a:off x="9360" y="4576680"/>
            <a:ext cx="2833920" cy="2424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108000" y="3268800"/>
            <a:ext cx="6297840" cy="1288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9900cc"/>
                </a:solidFill>
                <a:latin typeface="Arial"/>
              </a:rPr>
              <a:t>2º Trimestre 202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E:\Afonso2020\EBD2020\EBD2020Trim2_Daniel\Daniel fornalha2.jpg"/>
          <p:cNvPicPr/>
          <p:nvPr/>
        </p:nvPicPr>
        <p:blipFill>
          <a:blip r:embed="rId2"/>
          <a:srcRect l="0" t="8624" r="5401" b="0"/>
          <a:stretch/>
        </p:blipFill>
        <p:spPr>
          <a:xfrm>
            <a:off x="5967360" y="-44280"/>
            <a:ext cx="3176640" cy="333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E:\Afonso2020\EBD2020\EBD2020Trim2_Daniel\Daniel estátua3.jpg"/>
          <p:cNvPicPr/>
          <p:nvPr/>
        </p:nvPicPr>
        <p:blipFill>
          <a:blip r:embed="rId3"/>
          <a:stretch/>
        </p:blipFill>
        <p:spPr>
          <a:xfrm>
            <a:off x="3502080" y="-31680"/>
            <a:ext cx="2489040" cy="3319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E:\Afonso2020\EBD2020\EBD2020Trim2_Daniel\Daniel escrevendo1.jpg"/>
          <p:cNvPicPr/>
          <p:nvPr/>
        </p:nvPicPr>
        <p:blipFill>
          <a:blip r:embed="rId4"/>
          <a:stretch/>
        </p:blipFill>
        <p:spPr>
          <a:xfrm>
            <a:off x="0" y="-44280"/>
            <a:ext cx="3664080" cy="334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Afonso2020\EBD2020\EBD2020Trim2_Daniel\Daniel cova leões1.jpg"/>
          <p:cNvPicPr/>
          <p:nvPr/>
        </p:nvPicPr>
        <p:blipFill>
          <a:blip r:embed="rId5"/>
          <a:srcRect l="7375" t="12078" r="0" b="0"/>
          <a:stretch/>
        </p:blipFill>
        <p:spPr>
          <a:xfrm>
            <a:off x="2611440" y="4576680"/>
            <a:ext cx="4052880" cy="247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E:\Afonso2020\EBD2020\EBD2020Trim2_Daniel\Daniel animais1.jpg"/>
          <p:cNvPicPr/>
          <p:nvPr/>
        </p:nvPicPr>
        <p:blipFill>
          <a:blip r:embed="rId6"/>
          <a:srcRect l="6684" t="37123" r="0" b="0"/>
          <a:stretch/>
        </p:blipFill>
        <p:spPr>
          <a:xfrm>
            <a:off x="6189840" y="2882880"/>
            <a:ext cx="295416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E:\Afonso2020\EBD2020\EBD2020Trim2_Daniel\Daniel orando3.jpg"/>
          <p:cNvPicPr/>
          <p:nvPr/>
        </p:nvPicPr>
        <p:blipFill>
          <a:blip r:embed="rId7"/>
          <a:srcRect l="0" t="423" r="23245" b="0"/>
          <a:stretch/>
        </p:blipFill>
        <p:spPr>
          <a:xfrm>
            <a:off x="6620040" y="4530600"/>
            <a:ext cx="27716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6600"/>
                </a:solidFill>
                <a:latin typeface="Arial"/>
              </a:rPr>
              <a:t>I – A REBELIÃO DO REI CONTRA DEU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- Após a revelação do capítulo anterior, o rei Nabucodonosor mandou fabricar e erguer uma estátua de ouro de grandes proporções, lembrando a estátua com a qual ele havia sonhado e que tinha somente a cabeça feita de ouro. Mediante a interpretação dada por Daniel, o rei mostra não estar de acordo com o fim e a decadência da sua glória. Consideremos também que a estátua seria consagrada como objeto de adoração para todos os povos do império, contrariando também o que havia sido revelado em sonho a Nabudoconosor, de que a glória e o poder do seu império vinham de Deus, e não dele mesmo, e, portanto, somente o Deus dos deuses e o Senhor dos reis é que merecia o louv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I – A REBELIÃO DO REI CONTRA DE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- 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tão essa estátua representa a rebelião do rei babilônico contra o domínio absoluto de Deus. Em outras palavras, ele não consegue aceitar a verdade revelada no sonho que teve – que um Deus, que ele nunca conheceu, seja mais poderoso que os seus deuses, dispondo dos reinos deste mundo conforme a Sua vontade, entregando o poder a quem Ele quer. Esta ideia era estranha aos povos do passado, pois, embora acreditassem que os reis recebiam seu direito de governar a partir dos deuses, a glória dos deuses, por sua vez, aumentava na medida em que os reis eram bem sucedidos em suas conquistas. Por isso, a derrota ou conquista de um povo por um rei estrangeiro significava a derrota dos seus próprios deuses. Mas por Daniel foi revelado que havia um Deus que permanecia o mesmo e que Ele mesmo erguia o Seu próprio reino, único, universal e ete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09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6600"/>
                </a:solidFill>
                <a:latin typeface="Arial"/>
              </a:rPr>
              <a:t>I – A REBELIÃO DO REI CONTRA DEU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- Notemos ainda um aspecto característico da insensatez e rebelião dos reinos deste mundo – aqui representado tão vividamente em Nabucodonosor: libertar-se do domínio de Deus, não é apenas um sonho particular do rei, mas um ideal imposto para todos os subordinados. O homem natural é corrompido pelo poder em qualquer medida, iludindo-se com a possibilidade de obter liberdade absoluta de Deus; aqueles que se opõe a esse projeto são vistos como rebeldes, e devem ser destruídos.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(8-13)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100" spc="-1" strike="noStrike">
                <a:solidFill>
                  <a:srgbClr val="0000cc"/>
                </a:solidFill>
                <a:latin typeface="Arial"/>
              </a:rPr>
              <a:t>Sl 2;1-3,10-12;Ap 13.4,12,15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Arial"/>
              </a:rPr>
              <a:t>Sl 2; 1  Por que se amotinam as nações, e os povos imaginam coisas vãs?  2  Os reis da terra se levantam, e os príncipes juntos se mancomunam contra o SENHOR e contra o seu ungido, dizendo:  3  Rompamos as suas ataduras e sacudamos de nós as suas cordas.10  Agora, pois, ó reis, sede prudentes; deixai-vos instruir, juízes da ter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Arial"/>
              </a:rPr>
              <a:t>11  Servi ao SENHOR com temor e alegrai-vos com trem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Arial"/>
              </a:rPr>
              <a:t>12  Beijai o Filho, para que se não ire, e pereçais no caminho, quando em breve se inflamar a sua ira. Bem-aventurados todos aqueles que nele confi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7030a0"/>
                </a:solidFill>
                <a:latin typeface="Arial"/>
              </a:rPr>
              <a:t>Ap 13. 4  E adoraram o dragão que deu à besta o seu poder; e adoraram a besta, dizendo: Quem é semelhante à besta? Quem poderá batalhar contra 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7030a0"/>
                </a:solidFill>
                <a:latin typeface="Arial"/>
              </a:rPr>
              <a:t>12  E exerce todo o poder da primeira besta na sua presença e faz que a terra e os que nela habitam adorem a primeira besta, cuja chaga mortal fora cu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7030a0"/>
                </a:solidFill>
                <a:latin typeface="Arial"/>
              </a:rPr>
              <a:t>15  E foi-lhe concedido que desse espírito à imagem da besta, para que também a imagem da besta falasse e fizesse que fossem mortos todos os que não adorassem a imagem da be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8000"/>
                </a:solidFill>
                <a:latin typeface="Arial"/>
              </a:rPr>
              <a:t>ESBOÇ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 – A REBELIÃO DO REI CONTRA D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-1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II – A CONFIANÇA DOS JOVENS HEBREUS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4-2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II – A FIDELIDADE DE DEUS PARA COM OS SE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24-3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000" y="836640"/>
            <a:ext cx="7848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Daniel   3. 14  - 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(14-15)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(16-1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(19-2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E:\Afonso2020\EBD2020\EBD2020Trim2_Daniel\estátua de ouro3.jpg"/>
          <p:cNvPicPr/>
          <p:nvPr/>
        </p:nvPicPr>
        <p:blipFill>
          <a:blip r:embed="rId1"/>
          <a:stretch/>
        </p:blipFill>
        <p:spPr>
          <a:xfrm>
            <a:off x="0" y="0"/>
            <a:ext cx="33098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83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II – A CONFIANÇA DOS JOVENS HEBR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- Hananias, Misael e Azarias são denunciados por não adorarem aos deuses de Nabucodonosor nem à sua estátua de ouro, o que desperta o furor do um rei. Admitindo a possibilidade de que os jovens não haviam desobedecido ao mandado real conscientemente, ele lhes dá uma segunda chance e mostrarem que não se opunham ao seu projeto de poder. Mas, acrescenta: “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mas, se não a adorardes, sereis lançados, na mesma hora, dentro da fornalha de fogo ardente. E quem é o Deus que vos poderá livrar das minhas mãos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. São palavras de homem iludido pelo domínio que exerce sobre os seus semelhantes, ignorando que o poder de Deus pode se manifestar de forma mais real e eficaz do que jamais poderiam imaginar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100" spc="-1" strike="noStrike">
                <a:solidFill>
                  <a:srgbClr val="0000cc"/>
                </a:solidFill>
                <a:latin typeface="Arial"/>
              </a:rPr>
              <a:t>Ex 5.1-2; 9.13 e 14,23 e 24,27 e 28; 2 Rs 18.28-30; 19.35-37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91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cc"/>
                </a:solidFill>
                <a:latin typeface="Arial"/>
              </a:rPr>
              <a:t>Ex 5. 1  E, depois, foram Moisés e Arão e disseram a Faraó: Assim diz o SENHOR, Deus de Israel: Deixa ir o meu povo, para que me celebre uma festa no deserto.  2  Mas Faraó disse: Quem é o SENHOR, cuja voz eu ouvirei, para deixar ir Israel? Não conheço o SENHOR, nem tampouco deixarei ir Isra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7030a0"/>
                </a:solidFill>
                <a:latin typeface="Arial"/>
              </a:rPr>
              <a:t>Ex 9. 13  Então, disse o SENHOR a Moisés: Levanta-te pela manhã cedo, e põe-te diante de Faraó, e dize-lhe: Assim diz o SENHOR, o Deus dos hebreus: Deixa ir o meu povo, para que me sirva.  14  Porque esta vez enviarei todas as minhas pragas sobre o teu coração, e sobre os teus servos, e sobre o teu povo, para que saibas que não há outro como eu em toda a ter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7030a0"/>
                </a:solidFill>
                <a:latin typeface="Arial"/>
              </a:rPr>
              <a:t>23  E Moisés estendeu a sua vara para o céu, e o SENHOR deu trovões e saraiva, e fogo corria pela terra; e o SENHOR fez chover saraiva sobre a terra do Egito.  24  E havia saraiva e fogo misturado entre a saraiva, mui grave, qual nunca houve em toda a terra do Egito, desde que veio a ser uma n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7030a0"/>
                </a:solidFill>
                <a:latin typeface="Arial"/>
              </a:rPr>
              <a:t>27  Então, Faraó mandou chamar a Moisés e a Arão e disse-lhes: Esta vez pequei; o Senhor é justo, mas eu e o meu povo, ímpios.  28  Orai ao Senhor (pois que basta) para que não haja mais trovões de Deus nem saraiva; e eu vos deixarei ir, e não ficareis mais aqu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cc"/>
                </a:solidFill>
                <a:latin typeface="Arial"/>
              </a:rPr>
              <a:t>2 Rs 18. 28  Rabsaqué, pois, se pôs em pé, e clamou em alta voz em judaico, e falou, e disse: Ouvi a palavra do grande rei, do rei da Assíria.  29  Assim diz o rei: Não vos engane Ezequias; porque não vos poderá livrar da sua mão;  30  nem tampouco vos faça Ezequias confiar no SENHOR, dizendo: Certamente nos livrará o SENHOR, e esta cidade não será entregue na mão do rei da Assí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7030a0"/>
                </a:solidFill>
                <a:latin typeface="Arial"/>
              </a:rPr>
              <a:t>2Rs 19. 35  Sucedeu, pois, que naquela mesma noite, saiu o anjo do Senhor e feriu no arraial dos assírios a cento e oitenta e cinco mil deles; e, levantando-se pela manhã cedo, eis que todos eram corpos mortos.  36  Então, Senaqueribe, rei da Assíria, partiu, e foi; e voltou e ficou em Nínive.  37  E sucedeu que, estando ele prostrado na casa de Nisroque, seu deus, Adrameleque e Sarezer, seus filhos, o feriram à espada . .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83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Conteúdo 2"/>
          <p:cNvSpPr/>
          <p:nvPr/>
        </p:nvSpPr>
        <p:spPr>
          <a:xfrm>
            <a:off x="457200" y="1700280"/>
            <a:ext cx="82296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II – A CONFIANÇA DOS JOVENS HEBR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2 - </a:t>
            </a:r>
            <a:r>
              <a:rPr b="0" lang="pt-BR" sz="2600" spc="-1" strike="noStrike">
                <a:solidFill>
                  <a:srgbClr val="0000cc"/>
                </a:solidFill>
                <a:latin typeface="Arial"/>
              </a:rPr>
              <a:t>(16-18)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resposta dos jovens revela, em primeiro lugar, que eles se rebelavam, não contra o poder real, mas contra a arbitrariedade daquela ordem e o desafio que representava à sua obediência e fidelidade para com Deus. A expressão: “Não necessitamos de te responder sobre este negócio” indica a grande confiança deles de aquele era um momento de prova, onde o que estava em jogo não era argumentar com o rei, mas testemunhar que, seja qual fosse o desfecho da situação, Deus permaneceria todo-poderoso e soberano, e nada que o rei fizesse mudaria este fato. Deus não diminuiria em nada, nem mudaria quem Ele é.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cc"/>
                </a:solidFill>
                <a:latin typeface="Arial"/>
              </a:rPr>
              <a:t>(19-23)     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100" spc="-1" strike="noStrike">
                <a:solidFill>
                  <a:srgbClr val="0000cc"/>
                </a:solidFill>
                <a:latin typeface="Arial"/>
              </a:rPr>
              <a:t>At 5.29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836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"/>
              </a:rPr>
              <a:t>ESCOLA  BÍBLICA  DOMINICAL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640" y="4869000"/>
            <a:ext cx="756144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ções para as Classes de Jovens e Adultos da E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01680" y="2897280"/>
            <a:ext cx="8424720" cy="14698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4800"/>
            </a:br>
            <a:r>
              <a:rPr b="1" lang="pt-BR" sz="3600" spc="-1" strike="noStrike">
                <a:solidFill>
                  <a:srgbClr val="9900cc"/>
                </a:solidFill>
                <a:latin typeface="Arial"/>
              </a:rPr>
              <a:t>2º Trimestre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06064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Arial"/>
              </a:rPr>
              <a:t>At 5. 29  Porém, respondendo Pedro e os apóstolos, disseram: Mais importa obedecer a Deus do que aos hom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8000"/>
                </a:solidFill>
                <a:latin typeface="Arial"/>
              </a:rPr>
              <a:t>ESBOÇ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 – A REBELIÃO DO REI CONTRA D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-1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 – A CONFIANÇA DOS JOVENS HEBRE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4-2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III – A FIDELIDADE DE DEUS PARA COM OS SE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24-3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Daniel   3. 24  -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(24-2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(26-3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83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ço Reservado para Conteúdo 2"/>
          <p:cNvSpPr/>
          <p:nvPr/>
        </p:nvSpPr>
        <p:spPr>
          <a:xfrm>
            <a:off x="457200" y="1989000"/>
            <a:ext cx="8229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III – A FIDELIDADE DE DEUS PARA COM OS S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22222"/>
                </a:solidFill>
                <a:latin typeface="Calisto MT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222222"/>
                </a:solidFill>
                <a:latin typeface="Calisto MT"/>
                <a:ea typeface="Times New Roman"/>
              </a:rPr>
              <a:t>1 - Os companheiros de Daniel foram lançados na fornalha de fogo, certamente; mas o livramento foi mais maravilhoso do que se tivesse vindo antes disso. Se não tivesse vindo, Deus seria glorificado pela fidelidade dos Seus servos em </a:t>
            </a:r>
            <a:r>
              <a:rPr b="0" i="1" lang="pt-BR" sz="2800" spc="-1" strike="noStrike">
                <a:solidFill>
                  <a:srgbClr val="222222"/>
                </a:solidFill>
                <a:latin typeface="Calisto MT"/>
                <a:ea typeface="Times New Roman"/>
              </a:rPr>
              <a:t>preferir entregar seus corpos a servir ou adorar algum outro deus</a:t>
            </a:r>
            <a:r>
              <a:rPr b="0" lang="pt-BR" sz="2800" spc="-1" strike="noStrike">
                <a:solidFill>
                  <a:srgbClr val="222222"/>
                </a:solidFill>
                <a:latin typeface="Calisto MT"/>
                <a:ea typeface="Times New Roman"/>
              </a:rPr>
              <a:t>; mas a forma como tudo se resolveu é mais relevante para o tema de Daniel, pois é uma demonstração viva e palpável do controle e soberania de Deus sobre a história dos homens.</a:t>
            </a:r>
            <a:r>
              <a:rPr b="0" lang="pt-BR" sz="2800" spc="-1" strike="noStrike">
                <a:solidFill>
                  <a:srgbClr val="222222"/>
                </a:solidFill>
                <a:latin typeface="Calisto MT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222222"/>
                </a:solidFill>
                <a:latin typeface="Calisto MT"/>
                <a:ea typeface="Times New Roman"/>
              </a:rPr>
              <a:t>	</a:t>
            </a:r>
            <a:r>
              <a:rPr b="0" lang="pt-BR" sz="1100" spc="-1" strike="noStrike">
                <a:solidFill>
                  <a:srgbClr val="222222"/>
                </a:solidFill>
                <a:latin typeface="Calisto MT"/>
                <a:ea typeface="Times New Roman"/>
              </a:rPr>
              <a:t>	</a:t>
            </a:r>
            <a:r>
              <a:rPr b="0" lang="pt-BR" sz="1100" spc="-1" strike="noStrike">
                <a:solidFill>
                  <a:srgbClr val="222222"/>
                </a:solidFill>
                <a:latin typeface="Calisto MT"/>
                <a:ea typeface="Times New Roman"/>
              </a:rPr>
              <a:t>(</a:t>
            </a:r>
            <a:r>
              <a:rPr b="0" lang="pt-BR" sz="1100" spc="-1" strike="noStrike">
                <a:solidFill>
                  <a:srgbClr val="0000cc"/>
                </a:solidFill>
                <a:latin typeface="Calisto MT"/>
                <a:ea typeface="Times New Roman"/>
              </a:rPr>
              <a:t>v. 28; cf. Lc 12.4-5</a:t>
            </a:r>
            <a:r>
              <a:rPr b="0" lang="pt-BR" sz="1100" spc="-1" strike="noStrike">
                <a:solidFill>
                  <a:srgbClr val="222222"/>
                </a:solidFill>
                <a:latin typeface="Calisto MT"/>
                <a:ea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Lc 12. 4  E digo-vos, amigos meus: não temais os que matam o corpo e depois não têm mais o que fa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5  Mas eu vos mostrarei a quem deveis temer: temei aquele que, depois de matar, tem poder para lançar no inferno; sim, vos digo, a esse tem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83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ço Reservado para Conteúdo 2"/>
          <p:cNvSpPr/>
          <p:nvPr/>
        </p:nvSpPr>
        <p:spPr>
          <a:xfrm>
            <a:off x="45720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III – A FIDELIDADE DE DEUS PARA COM OS S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22222"/>
                </a:solidFill>
                <a:latin typeface="Calisto MT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222222"/>
                </a:solidFill>
                <a:latin typeface="Calisto MT"/>
                <a:ea typeface="Times New Roman"/>
              </a:rPr>
              <a:t>2 - 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(24-25) </a:t>
            </a:r>
            <a:r>
              <a:rPr b="0" lang="pt-BR" sz="2600" spc="-1" strike="noStrike">
                <a:solidFill>
                  <a:srgbClr val="222222"/>
                </a:solidFill>
                <a:latin typeface="Calisto MT"/>
                <a:ea typeface="Times New Roman"/>
              </a:rPr>
              <a:t>Para o assombro de Nabucodonosor, os jovens permaneciam intactos dentro da fornalha, vivos e de pé dentro do fogo. E, como sinal divino, o rei pode ver junto deles o quarto homem – certamente um anjo de Deus, enviado para executar o livramento dos Seus servos (como ele mesmo interpreta). Chamados para fora e examinados, todos os presentes constatam a perfeição do livramento divino – o que arranca da boca do rei nova expressão de reconhecimento ao Deus Altíssimo, e leva-o a baixar um decreto prestigiando “</a:t>
            </a:r>
            <a:r>
              <a:rPr b="0" lang="pt-BR" sz="2600" spc="-1" strike="noStrike">
                <a:solidFill>
                  <a:srgbClr val="0000cc"/>
                </a:solidFill>
                <a:latin typeface="Calisto MT"/>
                <a:ea typeface="Times New Roman"/>
              </a:rPr>
              <a:t>o Deus de Sadraque, Mesaque e Abednego</a:t>
            </a:r>
            <a:r>
              <a:rPr b="0" lang="pt-BR" sz="2600" spc="-1" strike="noStrike">
                <a:solidFill>
                  <a:srgbClr val="222222"/>
                </a:solidFill>
                <a:latin typeface="Calisto MT"/>
                <a:ea typeface="Times New Roman"/>
              </a:rPr>
              <a:t>” acima dos outros deuses. O texto não volta a falar da estátua de ouro.</a:t>
            </a:r>
            <a:r>
              <a:rPr b="0" lang="pt-BR" sz="2800" spc="-1" strike="noStrike">
                <a:solidFill>
                  <a:srgbClr val="222222"/>
                </a:solidFill>
                <a:latin typeface="Calisto MT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(26-30)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100" spc="-1" strike="noStrike">
                <a:solidFill>
                  <a:srgbClr val="222222"/>
                </a:solidFill>
                <a:latin typeface="Calisto MT"/>
                <a:ea typeface="Times New Roman"/>
              </a:rPr>
              <a:t>(</a:t>
            </a:r>
            <a:r>
              <a:rPr b="0" lang="pt-BR" sz="1100" spc="-1" strike="noStrike">
                <a:solidFill>
                  <a:srgbClr val="0000cc"/>
                </a:solidFill>
                <a:latin typeface="Calisto MT"/>
                <a:ea typeface="Times New Roman"/>
              </a:rPr>
              <a:t>Lc 12.4-5</a:t>
            </a:r>
            <a:r>
              <a:rPr b="0" lang="pt-BR" sz="1100" spc="-1" strike="noStrike">
                <a:solidFill>
                  <a:srgbClr val="222222"/>
                </a:solidFill>
                <a:latin typeface="Calisto MT"/>
                <a:ea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8000"/>
                </a:solidFill>
                <a:latin typeface="Arial"/>
              </a:rPr>
              <a:t>ESBOÇ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 – A REBELIÃO DO REI CONTRA D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-1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 – A CONFIANÇA DOS JOVENS HEBRE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4-2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II – A FIDELIDADE DE DEUS PARA COM OS SE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24-3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Conclus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Arial"/>
              </a:rPr>
              <a:t>CONCLU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lição principal desta aula é uma das mais essenciais da Escritura: antes temer a Deus do que aos homens, ainda que isto custe a própria vida. Contudo, na prática, muitos por bem menos abrem mão do que é devido a Deus para agradar aos homens, esperando que somente serão provados neste mandamento quando o temor a Deus custar a sua própria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8000"/>
                </a:solidFill>
                <a:latin typeface="Arial"/>
              </a:rPr>
              <a:t>ESBOÇ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 – A REBELIÃO DO REI CONTRA DE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-1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 – A CONFIANÇA DOS JOVENS HEBRE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4-2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II – A FIDELIDADE DE DEUS PARA COM OS SE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24-3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704000" cy="1425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632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TEXTO ÁUREO: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Falou Nabucodonosor e disse: Bendito seja o Deus de Sadraque, Mesaque e Abede-Nego, que enviou o seu anjo e livrou os seus servos, que confiaram nele, pois não quiseram cumprir a palavra do rei, preferindo entregar os seus corpos, para que não servissem nem adorassem algum outro deus, senão o seu Deus.”   </a:t>
            </a: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(Dn 3. 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147024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4800"/>
            </a:br>
            <a:r>
              <a:rPr b="1" lang="pt-BR" sz="3600" spc="-1" strike="noStrike">
                <a:solidFill>
                  <a:srgbClr val="9900cc"/>
                </a:solidFill>
                <a:latin typeface="Arial"/>
              </a:rPr>
              <a:t>2º Trimestre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9280" y="3429000"/>
            <a:ext cx="5580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d60093"/>
                </a:solidFill>
                <a:latin typeface="Arial"/>
              </a:rPr>
              <a:t>LIÇÃO 4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d60093"/>
                </a:solidFill>
                <a:latin typeface="Arial"/>
              </a:rPr>
              <a:t>A FIDELIDADE DE D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d60093"/>
                </a:solidFill>
                <a:latin typeface="Arial"/>
              </a:rPr>
              <a:t>DURANTE A PRO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7030a0"/>
                </a:solidFill>
                <a:latin typeface="Arial"/>
              </a:rPr>
              <a:t>26 ABR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E:\Afonso2020\EBD2020\EBD2020Trim2_Daniel\Daniel fornalha2.jpg"/>
          <p:cNvPicPr/>
          <p:nvPr/>
        </p:nvPicPr>
        <p:blipFill>
          <a:blip r:embed="rId1"/>
          <a:stretch/>
        </p:blipFill>
        <p:spPr>
          <a:xfrm>
            <a:off x="5442120" y="2565360"/>
            <a:ext cx="38098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47640" y="3499920"/>
            <a:ext cx="6297840" cy="12891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9900cc"/>
                </a:solidFill>
                <a:latin typeface="Arial"/>
              </a:rPr>
              <a:t>2º Trimestre 202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:\Afonso2020\EBD2020\EBD2020Trim2_Daniel\Daniel escrevendo1.jpg"/>
          <p:cNvPicPr/>
          <p:nvPr/>
        </p:nvPicPr>
        <p:blipFill>
          <a:blip r:embed="rId1"/>
          <a:stretch/>
        </p:blipFill>
        <p:spPr>
          <a:xfrm>
            <a:off x="0" y="-44280"/>
            <a:ext cx="366408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LEITURA  BÍBLICA  EM  CLAS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Daniel  3.13 a 26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704000" cy="1425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632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TEXTO ÁUREO: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Falou Nabucodonosor e disse: Bendito seja o Deus de Sadraque, Mesaque e Abede-Nego, que enviou o seu anjo e livrou os seus servos, que confiaram nele, pois não quiseram cumprir a palavra do rei, preferindo entregar os seus corpos, para que não servissem nem adorassem algum outro deus, senão o seu Deus.”   </a:t>
            </a: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(Dn 3. 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8000"/>
                </a:solidFill>
                <a:latin typeface="Arial"/>
              </a:rPr>
              <a:t>ESBOÇ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 – A REBELIÃO DO REI CONTRA D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-1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 – A CONFIANÇA DOS JOVENS HEBRE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4-2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II – A FIDELIDADE DE DEUS PARA COM OS SE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24-3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0755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b05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esta lição estudaremos o único episódio narrado por Daniel envolvendo diretamente apenas seus companheiros no cativeiro e no temor ao único Deus verdadeiro. Veremos como eles também se destacaram na coragem para resistir ao pecado e na confiança de que o Senhor atenta para aqueles que O temem. Aqui também se mostra com mais nitidez a truculência dos reinos deste mundo, na ocasião representados pelo reino babilônico e seu mandante, Nabucodonos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700"/>
            </a:br>
            <a:r>
              <a:rPr b="1" lang="pt-BR" sz="2500" spc="-1" strike="noStrike">
                <a:solidFill>
                  <a:srgbClr val="d60093"/>
                </a:solidFill>
                <a:latin typeface="Arial"/>
              </a:rPr>
              <a:t>LIÇÃO 4: A FIDELIDADE DE DEUS DURANTE A PROV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8000"/>
                </a:solidFill>
                <a:latin typeface="Arial"/>
              </a:rPr>
              <a:t>ESBOÇ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I – A REBELIÃO DO REI CONTRA D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-1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 – A CONFIANÇA DOS JOVENS HEBRE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4-2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II – A FIDELIDADE DE DEUS PARA COM OS SE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24-3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836640"/>
            <a:ext cx="7859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Daniel   3. 1  -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(1-7)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(8-1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E:\Afonso2020\EBD2020\EBD2020Trim2_Daniel\estátua de ouro3.jpg"/>
          <p:cNvPicPr/>
          <p:nvPr/>
        </p:nvPicPr>
        <p:blipFill>
          <a:blip r:embed="rId1"/>
          <a:srcRect l="3084" t="0" r="50010" b="22979"/>
          <a:stretch/>
        </p:blipFill>
        <p:spPr>
          <a:xfrm>
            <a:off x="0" y="0"/>
            <a:ext cx="25923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6:32:09Z</dcterms:created>
  <dc:creator>ASSEMBLEIAS DE DEUS</dc:creator>
  <dc:description/>
  <dc:language>en-US</dc:language>
  <cp:lastModifiedBy>I.G.V</cp:lastModifiedBy>
  <dcterms:modified xsi:type="dcterms:W3CDTF">2020-04-21T22:10:23Z</dcterms:modified>
  <cp:revision>193</cp:revision>
  <dc:subject/>
  <dc:title>Slide 1</dc:title>
</cp:coreProperties>
</file>