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871-C62D-4AB3-900D-B404A7DE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D40-914E-4756-9B26-2F3E7ABF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B58-AA7C-41EC-92DF-525D3A07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89B-B42E-4801-AC5C-B84210C2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77F-FBE6-4225-9656-53D8880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366-8B2C-49AA-A1C2-6E3758F4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150-6C22-409D-9FD4-ED4780A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F02-5349-4D0D-84FC-05FA37B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73D-B3B2-43FB-B884-0777B247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C81-B39F-4D7C-8000-7F389B2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C41-AE9C-48E9-A36D-26657F4D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8D8-0DD7-43AF-AB68-20A24816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892E-1D4F-4E93-9C26-ADDD03C9841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Afonso2020\EBD2020\EBD2020Trim2_Daniel\Daniel alimentação1.jpg"/>
          <p:cNvPicPr/>
          <p:nvPr/>
        </p:nvPicPr>
        <p:blipFill>
          <a:blip r:embed="rId1"/>
          <a:srcRect l="0" t="0" r="26201" b="0"/>
          <a:stretch/>
        </p:blipFill>
        <p:spPr>
          <a:xfrm>
            <a:off x="9360" y="4576680"/>
            <a:ext cx="2833920" cy="2424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-108000" y="3268800"/>
            <a:ext cx="6297840" cy="12888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E:\Afonso2020\EBD2020\EBD2020Trim2_Daniel\Daniel fornalha2.jpg"/>
          <p:cNvPicPr/>
          <p:nvPr/>
        </p:nvPicPr>
        <p:blipFill>
          <a:blip r:embed="rId2"/>
          <a:srcRect l="0" t="8624" r="5401" b="0"/>
          <a:stretch/>
        </p:blipFill>
        <p:spPr>
          <a:xfrm>
            <a:off x="5967360" y="-44280"/>
            <a:ext cx="3176640" cy="33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E:\Afonso2020\EBD2020\EBD2020Trim2_Daniel\Daniel estátua3.jpg"/>
          <p:cNvPicPr/>
          <p:nvPr/>
        </p:nvPicPr>
        <p:blipFill>
          <a:blip r:embed="rId3"/>
          <a:stretch/>
        </p:blipFill>
        <p:spPr>
          <a:xfrm>
            <a:off x="3502080" y="-31680"/>
            <a:ext cx="2489040" cy="331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E:\Afonso2020\EBD2020\EBD2020Trim2_Daniel\Daniel escrevendo1.jpg"/>
          <p:cNvPicPr/>
          <p:nvPr/>
        </p:nvPicPr>
        <p:blipFill>
          <a:blip r:embed="rId4"/>
          <a:stretch/>
        </p:blipFill>
        <p:spPr>
          <a:xfrm>
            <a:off x="0" y="-44280"/>
            <a:ext cx="3664080" cy="33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Afonso2020\EBD2020\EBD2020Trim2_Daniel\Daniel cova leões1.jpg"/>
          <p:cNvPicPr/>
          <p:nvPr/>
        </p:nvPicPr>
        <p:blipFill>
          <a:blip r:embed="rId5"/>
          <a:srcRect l="7375" t="12078" r="0" b="0"/>
          <a:stretch/>
        </p:blipFill>
        <p:spPr>
          <a:xfrm>
            <a:off x="2611440" y="4576680"/>
            <a:ext cx="4052880" cy="24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E:\Afonso2020\EBD2020\EBD2020Trim2_Daniel\Daniel animais1.jpg"/>
          <p:cNvPicPr/>
          <p:nvPr/>
        </p:nvPicPr>
        <p:blipFill>
          <a:blip r:embed="rId6"/>
          <a:srcRect l="6684" t="37123" r="0" b="0"/>
          <a:stretch/>
        </p:blipFill>
        <p:spPr>
          <a:xfrm>
            <a:off x="6189840" y="2882880"/>
            <a:ext cx="29541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E:\Afonso2020\EBD2020\EBD2020Trim2_Daniel\Daniel orando3.jpg"/>
          <p:cNvPicPr/>
          <p:nvPr/>
        </p:nvPicPr>
        <p:blipFill>
          <a:blip r:embed="rId7"/>
          <a:srcRect l="0" t="423" r="23245" b="0"/>
          <a:stretch/>
        </p:blipFill>
        <p:spPr>
          <a:xfrm>
            <a:off x="6620040" y="4530600"/>
            <a:ext cx="27716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I – A CORTE DO REI DE BABILÔ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- Por ocasião já era o centro econômico e político do mundo oriental anti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nações estavam sendo dominadas e os despojos de guerra, tesouros de templos e palácios saqueados, artistas, sábios e artesãos de todos os ofícios estavam sendo levados para a grande capital do império, aumentando sua opulê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I – A CORTE DO REI DE BABILÔ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niel e seus companheiros encontravam-se em Babilônia como cativos. Contudo, de repente estão entre os escolhidos e trazidos à corte de Nabucodono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relação ao nosso profeta e seus companheiros, eles seriam ensinados “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nas letras e língua dos cald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I – A CORTE DO REI DE BABILÔ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3- Esses joven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tão diante de um processo de “aculturação”, onde eles deveriam se esquecer de tudo aquilo que pudesse impedi-los de serem iguais aos caldeus, na prática e nos costumes. E isto incluía suas crenç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nfim, esses jovens deveriam viver de acordo com Babilônia, celebrando seus deuses todos os dias em seus nomes e em suas refeiçõ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tângulo 2"/>
          <p:cNvSpPr/>
          <p:nvPr/>
        </p:nvSpPr>
        <p:spPr>
          <a:xfrm>
            <a:off x="795240" y="198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Daniel           significados:   Deus é meu J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Hananias                             Jeová é cl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isael                                  Quem é igual a D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zarias                                 Ajudado por Je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1046160" y="3933720"/>
            <a:ext cx="741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vos n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Beltessazar           Bel protege su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Sadra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Servo de Aku (deus Lu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Mesaque               A sombra do prínc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u quem é e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Abede-nego          Servo de Nego  (ou Nebo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deus da sabedo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I – A FIRME RESOLUÇÃO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v. 8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I –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00cc"/>
                </a:solidFill>
                <a:latin typeface="Arial"/>
              </a:rPr>
              <a:t>Dn 1.8-1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II – A FIRME RESOLUÇÃO DE DAN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 - Considerando a situação, mesmo que houvesse um grave risco para sua vida, “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Daniel propôs em seu coração não se contamin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b050"/>
                </a:solidFill>
                <a:latin typeface="Arial"/>
              </a:rPr>
              <a:t>II – A FIRME RESOLUÇÃO DE DAN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 - Mas Deus, na Sua grande benevolência e misericórdia, atentou para o propósito de Daniel e providenciou uma saída para que a pureza destes jovens não fosse contaminada, isto, através da concordância do chefe dos eunucos.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II – O VALOR DA INTEGR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v. 14-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420640"/>
            <a:ext cx="8291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0000cc"/>
                </a:solidFill>
                <a:latin typeface="Arial"/>
              </a:rPr>
              <a:t>Dn 1.15-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836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COLA  BÍBLICA  DOMINICAL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4869000"/>
            <a:ext cx="75614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ções para as Classes de Jovens e Adultos da E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1680" y="2897280"/>
            <a:ext cx="8424720" cy="14698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4800"/>
            </a:br>
            <a:r>
              <a:rPr b="1" lang="pt-BR" sz="36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"/>
              </a:rPr>
              <a:t>III – O VALOR DA INTEG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- Como aqueles que participam de uma refeição frugal poderiam parecer melhores do que aqueles que se banqueteiam com carne e vinh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s os dez dias se passaram e os jovens foram achados em condições de prosseguir com a sua abstinência, pois o que o mordomo mais temia – que o rei os achasse tristes ou desnutridos – não aconteceu.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III – O VALOR DA INTEG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- Mas certamente a recompensa veio; diante do escrutínio do rei, “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não foram achados outros tais como Daniel, Hananias, Misael e Azarias; portanto ficaram assistindo diante do re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os quatro jovens “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Deus deu o conhecimento e a inteligência em todas as letras e sabedoria”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icularmente a Daniel, o Senhor concedeu o dom de “</a:t>
            </a: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entendimento em toda visão e sonhos”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que se mostraria útil em toda a sua v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A integridade do nosso coração para com Deus é a coisa mais preciosa que temos; é o bom tesouro que devemos guardar a todo custo. É através dela que alcançamos de Deus a paz e a segurança de que precisamos para chegarmos vitoriosos até o fim da nossa peregrinação neste mu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TEXTO ÁUREO: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t-BR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pt-BR" sz="3600" spc="-1" strike="noStrike">
                <a:solidFill>
                  <a:srgbClr val="0000cc"/>
                </a:solidFill>
                <a:latin typeface="Arial"/>
              </a:rPr>
              <a:t>E Daniel propôs no seu coração não se contaminar com a porção das iguarias do rei, nem com o vinho que ele bebia”</a:t>
            </a:r>
            <a:r>
              <a:rPr b="1" lang="pt-BR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(Dn 1.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47640" y="3499920"/>
            <a:ext cx="6297840" cy="12891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E:\Afonso2020\EBD2020\EBD2020Trim2_Daniel\Daniel escrevendo1.jpg"/>
          <p:cNvPicPr/>
          <p:nvPr/>
        </p:nvPicPr>
        <p:blipFill>
          <a:blip r:embed="rId1"/>
          <a:stretch/>
        </p:blipFill>
        <p:spPr>
          <a:xfrm>
            <a:off x="0" y="-44280"/>
            <a:ext cx="399564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424720" cy="147024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4800"/>
            </a:br>
            <a:r>
              <a:rPr b="1" lang="pt-BR" sz="3600" spc="-1" strike="noStrike">
                <a:solidFill>
                  <a:srgbClr val="9900cc"/>
                </a:solidFill>
                <a:latin typeface="Arial"/>
              </a:rPr>
              <a:t>2º Trimestre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55640" y="3933720"/>
            <a:ext cx="7561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60093"/>
                </a:solidFill>
                <a:latin typeface="Arial"/>
              </a:rPr>
              <a:t>Lição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d60093"/>
                </a:solidFill>
                <a:latin typeface="Arial"/>
              </a:rPr>
              <a:t>A Integridade Resoluta de Dan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7030a0"/>
                </a:solidFill>
                <a:latin typeface="Arial"/>
              </a:rPr>
              <a:t>12 ABR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LEITURA  BÍBLICA  EM  CLAS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0000"/>
                </a:solidFill>
                <a:latin typeface="Arial"/>
              </a:rPr>
              <a:t>Daniel  1.  8 a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TEXTO ÁUREO: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pt-BR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pt-BR" sz="3600" spc="-1" strike="noStrike">
                <a:solidFill>
                  <a:srgbClr val="0000cc"/>
                </a:solidFill>
                <a:latin typeface="Arial"/>
              </a:rPr>
              <a:t>E Daniel propôs no seu coração não se contaminar com a porção das iguarias do rei, nem com o vinho que ele bebia”</a:t>
            </a:r>
            <a:r>
              <a:rPr b="1" lang="pt-BR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(Dn 1.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 – A CORTE DO REI DE BABILÔ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v. 3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A FIRME RESOLUÇÃO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v. 8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I – O VALOR DA INTEGRID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v. 14-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075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b05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a lição de hoje entenderemos melhor um dos aspectos excelentes do caráter de Daniel: sua integridade moral e espiritual, a qual demonstrou com grande resolução e confiança em D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cc"/>
                </a:solidFill>
                <a:latin typeface="Arial"/>
              </a:rPr>
              <a:t>ESTUDO  NO  LIVRO  DE  DANIEL</a:t>
            </a:r>
            <a:br>
              <a:rPr sz="2800"/>
            </a:br>
            <a:r>
              <a:rPr b="1" lang="pt-BR" sz="2800" spc="-1" strike="noStrike">
                <a:solidFill>
                  <a:srgbClr val="d60093"/>
                </a:solidFill>
                <a:latin typeface="Arial"/>
              </a:rPr>
              <a:t>Lição 2:  A Integridade Resoluta de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SBOÇ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 – A CORTE DO REI DE BABILÔ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v. 3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 –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II – 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915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0000cc"/>
                </a:solidFill>
                <a:latin typeface="Arial"/>
              </a:rPr>
              <a:t>Dn 1.1-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6:32:09Z</dcterms:created>
  <dc:creator>ASSEMBLEIAS DE DEUS</dc:creator>
  <dc:description/>
  <dc:language>en-US</dc:language>
  <cp:lastModifiedBy>Tiago Morais</cp:lastModifiedBy>
  <dcterms:modified xsi:type="dcterms:W3CDTF">2020-04-07T22:35:18Z</dcterms:modified>
  <cp:revision>152</cp:revision>
  <dc:subject/>
  <dc:title>Slide 1</dc:title>
</cp:coreProperties>
</file>